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  <p:sldId id="290" r:id="rId65"/>
    <p:sldId id="291" r:id="rId66"/>
    <p:sldId id="292" r:id="rId67"/>
    <p:sldId id="293" r:id="rId68"/>
    <p:sldId id="294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slide" Target="slides/slide35.xml"/><Relationship Id="rId66" Type="http://schemas.openxmlformats.org/officeDocument/2006/relationships/slide" Target="slides/slide36.xml"/><Relationship Id="rId67" Type="http://schemas.openxmlformats.org/officeDocument/2006/relationships/slide" Target="slides/slide37.xml"/><Relationship Id="rId68" Type="http://schemas.openxmlformats.org/officeDocument/2006/relationships/slide" Target="slides/slide38.xml"/><Relationship Id="rId69" Type="http://schemas.openxmlformats.org/officeDocument/2006/relationships/slide" Target="slides/slide39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8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ftr" idx="8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 type="sldNum" idx="8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9E79-6623-421C-B7AC-E8E21F2BBA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5EB4-5ADE-4786-9E67-27EA575F0D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BB82-1DDF-406A-A8FF-FAFEFEDA9B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E4DF-A4FF-43C8-8C91-9037CB34BD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59BD-EB69-42B4-99FC-9157B189DF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EDE5-79B6-47A8-9840-2CE4D9BF7A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CDA8-DF69-4815-B133-631D4CD36A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9ECB-4DC3-41F2-9B85-44FA588547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230F-E2D3-4427-B542-4F3EF6EDDC1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E83C-5D85-4D32-93B6-34A773840D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1EB9-3CF2-4788-8EC9-5E457A5DE6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D3D1-E979-41AB-96C2-91962B1AD4E2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86F1-EACD-4471-A680-492CED86D0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EDDB-80F8-4B57-99C8-E5B88A8F92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5621-0783-4898-B9FF-6EF98BB74A5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F8B6-F8A1-4408-A236-EE716A41D9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789D-1402-4DA1-BB61-98C98F26BD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13A7-4FEB-47CB-8659-EFD7BDDAC7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4C51-044D-4758-848E-6134B8316C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F185-0576-48DB-AF5D-B1BC3DAAC6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2E02-5E66-470C-AA8E-759ECEBA51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E605-FF55-48EC-8C5C-67EDBC2846B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B57C-2997-40A8-BFA5-546C6695F5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C52C-7E78-4F09-B1A9-F8AC4AD42D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5A53-EA7D-4E44-BF26-673497B6B3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7B65-D74C-4173-9E2F-423232132F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0398-C6E8-4440-8873-E43ABE4FAA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7A41-EBF8-452F-8D84-E9F5588F9C6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6256-FBB1-4589-83E5-CDF6D9AC11F9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EF55-9C68-4A58-87D3-659E65E51D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7445-20BE-4124-802B-B4A50A06BFAA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8A64-5722-4C12-8A9E-C820B4EEC82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06AE-62BB-4E58-9430-1A8414674D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0BD4-EAB4-49BF-9959-D09ECB275D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EF21-8D10-4835-BC95-6DF0A9A943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FD41-1720-4E3E-8BA9-D8787EE73B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D79E-CBDF-46C4-8AE6-8AA5E0E2E4A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21E2-0378-4103-8011-F1BD240CA0E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422-00D6-4D73-A750-4BAB88E0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84C-DEAE-439E-8183-F6C58061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2C45B-7435-4E65-B026-F4CDB429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F699A-8325-4DDF-9400-C813328A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8F4C5-3310-4861-A29F-05761F7C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85595-2538-494D-A3CE-064EB903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1BBC7-5D53-4DAE-AA89-9AD87421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0750B-E541-4732-9C27-3BAF2FE8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9DEB7-D555-48BC-B220-ADF8A48C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42394-1344-492C-8023-1C69F7CA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B78D8-2E89-4EDB-B038-13E41DD2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3A2A2-2A3E-4D7B-9B16-C5BFC1FE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F11-3C15-47A0-8FDE-0C0B4343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9A9CD-A783-42FC-8E91-CB40619E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64C07-3D20-42F5-996F-F5AEE7A1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21F0E-64F1-44E5-907D-526A71EB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70B78-2171-40A5-B289-96F59360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9F369-76D3-4399-B378-D1450725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7F5CC-3C51-44AD-908A-282A74BA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B6997B-E295-4704-941E-C12D30EE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75CC03-3C58-4040-8861-7B38AE31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D0A1C-1A20-41AD-9B4E-A6AF4582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F1176-2747-4C8C-8DD0-DEEA34D1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07E-A9FB-4EE8-9492-75B8DC4E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21500-61D8-4574-A93A-980910AD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6F8600-8BAC-47C7-B4F3-8D1BA2A8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B8DB63-2108-43E8-BF7A-151EB0D8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A9B9A8-C083-42DA-9B6D-22E5A05E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2C55D6-50E6-40C2-A10F-5C4E3BA6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095D23-EB04-4388-8C75-99E092B0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2CB3BF-9CB1-4409-BC7D-81BFF2CC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59C1AF-DAA3-414D-8C48-B790B392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6A86AA-ADBE-4FAE-B384-25D7C0CF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E3C290-212D-4CE3-937A-55435EB9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3A3A-A827-4128-8D85-3CB6822C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CBD7E5-38AC-4882-9F1D-8709526B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6422D6-7DFA-4BD8-AE71-3CD5CEBE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CA9055-812A-466A-8CFB-CAB5881B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F9A0D-6C42-4EF4-9797-37478F40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32D85-436A-40DC-8A80-D7785B44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FFD47-DC66-475B-B6CB-AD99113D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1AD59-C093-43B9-9C4C-5235F151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4FA67-94A2-45FE-828D-8ECF032F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24337-9992-45EB-A17B-182EF1EE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0A1B2-E4DC-4BD2-A3C6-42CC84F1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C8DB-BF14-4093-A7B8-8EFE7CD7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2B635-65E8-4365-9C20-1CDF9552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D1FFE-30CA-44AC-8CFE-E0E17972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311CE-4EE8-45F8-9287-FFDC474D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F776C-D01C-48DC-926C-416EB6B3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73331-7E74-40C6-ABC2-23CC80EF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944265-9A85-4C80-A19F-D5C9D470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F4E161-7C22-4971-BDA9-CF68DD78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B36EBE-C418-4664-A190-6F72393E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591992-83CD-458E-9D4B-D21B58E0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3F78A5-EB7C-43A3-A8BD-478056D4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9404-0A5E-44CF-9371-C9832352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DD1027-7E9C-4980-B9D4-DBBB711B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AD3260-5AE7-437D-823B-0D4E2772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C3B089-AB04-4CDA-A386-70EDA37A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C2CEBF-BC42-487C-8B6B-E2FF4379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738027-ACD7-4BEF-BA7C-25CB91C8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4A1937-79A0-4E73-8ACD-29988E54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BDE5D6-4047-427D-8296-5C4E6782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CC9B5F-B080-4DE7-9E35-20C9E5D0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123033-1FA4-46BC-90A3-B36AE82B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617A3A-C0B6-43E1-BC0F-2509BB1B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5B1C-7A41-4142-8166-4BBCF39A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36E138-DABA-4261-A00E-6644554E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3C8F5A-FC42-4565-B7C3-71A29559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78F226-4E0F-4C1C-A155-6B00863D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D3B5C9-C477-4400-B79D-28203546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E27688-C9FA-4702-988A-51D20411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D5080E-5179-4624-820E-E47742FF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A46668-E69B-40EB-BC35-BE6AFA8F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8CE873-65B7-48A4-A2B0-E6808EE6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55F351-EEB2-45B1-BDCE-2EB2AE23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707B820-7092-4B0A-A06F-26E1E55B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232A-DDAF-4011-9A2A-EA72BF52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F36F7B-4F01-4387-9319-FE3F2B8E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198D833-EB9C-4FC1-90C8-FD476A0D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DCD9BB-DE5C-43E0-A0D8-D09DF65E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3007B0-5EF1-40DC-BC25-51867734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E3C48D-9599-4A46-BA12-55CF699A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2F1602F-C516-4F81-B2BE-B1AE5CE9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433458B-6AEA-45FB-B608-2ABA027F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1E683D0-6F98-4D6C-AB50-4DB75A5C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FF4471-0165-4ACE-A59C-C612EB2C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8280FA-1C6C-49C1-9B88-D341C6D9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36DD-F61D-4299-AD32-F0405BFD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7C2270-F27A-4726-96F6-626E9642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3721C5A-B194-4C12-BB1B-027E7E9B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1B7FE4-3F2A-4B36-8669-73AF6868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3FC426-FE0F-4065-9C9F-1B678921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A63EF8-4981-40F0-9866-AC3F4455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9B4ABA-FA7F-498F-9791-97DD9A2D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C84401-D4A1-42D7-B1C5-DE6AD5B0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153A1B-77C1-4CAE-9BF5-82110E66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38E660-CC4E-495E-B096-1603127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CA872B-B6B1-426B-BBAB-9BE631A8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CCF1-95A3-4E7A-8088-E61B686E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B0F057D-A6BD-4F78-A7E6-0BD51705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D066535-CB60-4C5C-AEE6-2A3689A9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E52C0D-851D-4E55-A165-92F2DDB2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E1E31DD-2B65-4A17-8F23-1968B79D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39C040A-4119-4856-BFE6-22D471E3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15B6A7D-8B89-4C52-B866-1159C9D5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521EF74-D922-435F-92F6-900E02DA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7E37B2-A73C-4247-B90A-21C9085C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8201DF4-449A-4DFF-A76E-DACE2B01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51661BD-628F-4BAA-98F9-4713B86C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B79-AB31-497B-B232-FB363885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4367-BEB3-42D8-93D6-63A5E084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55C8651-6B88-46BD-9CC0-AAFB5C3B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531A4A2-9774-4386-A46A-596B61CE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A04538C-1903-431F-B231-02274434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563B9FF-DB8E-4729-8D12-BE17C242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E52025D-CF79-4484-8AEA-B5142868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311236-A3E3-4068-9E53-DEED694E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DD9D8D-CF52-4709-8C51-9CC65CCC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D46553-6EAB-4D81-9537-C37BBEFF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3962C3-4A63-48D7-8432-DDB44C90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94F2A4-5DBA-4378-838E-27654E61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C28B-AD60-46F4-88B4-3FABCE2B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B52F55-B395-4E18-855D-3F5B3786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1087240-58BF-4C4F-91E3-133B289E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7CB9E7-1DD3-4E7A-A0EB-76218BDB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A40E6C-DFBE-4E8F-AC01-572A3371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8CA5685-F354-4BE0-BF21-FB5B307F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DDE87C-F88E-46E9-A4D7-941B9813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158713-36C5-4023-9D06-04E2E0DD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FE2661-90EC-4C9E-AF88-EA143FAA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2261E1C-BECD-464B-BCE2-24DAA4E9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A89E8C0-F69C-44A6-BD28-56E513E2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3696-102B-44BA-BF55-1C7DD32E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EFC6C08-3554-4B6C-B2AE-21E888B1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D8B11A3-FDC0-40CD-A7EB-30AC78F5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9A11602-5F38-41CD-AB65-EDE93436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6811692-8332-4F4C-A30C-FEA200B9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D20B035-B065-461B-A63C-85A53CE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A34CD88-C60A-48EA-8D7F-2AC9A406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DAE7535-E770-47A4-8323-C8EA2C3B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3EC44F3-DD8C-4D51-9752-2222B957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BAC0F36-7C55-419E-8C80-B9AA4103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5D66882-48E8-456F-82C8-D757AC58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476F-9E42-4FBA-9470-D47C1A3B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C67423-8049-4F8D-B1C9-DAAC8E79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D8248C-EAF0-4B24-B91F-8139D7EE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9A831E2-5C85-4D46-ABFC-6F45BA99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418118C-2E7E-4230-B4D4-06F486CD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265EA50-EB18-416B-B18F-4763FB61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95783E-13E2-4110-AE5E-D8826E74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00BB6F8-A70A-484D-948E-EDF0FDFB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02E794A-466F-4D0D-BEE8-E7501ABF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58896B3-AF90-4DAB-A7BB-9CC22AAA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CA4DAEA-8B33-414D-A1FF-7349AD0F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875E-0414-40EA-B3FE-0E797A97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DF13C65-3A59-4A8D-8D49-D347EFCB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4536C1A-9F98-405E-B069-A0B89F17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8E32B7D-64AD-4EAC-8EA9-5E533877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87EC266-401D-428A-AD72-19DD73FE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8FF85E9-0BB6-4C20-9B2E-5234B4F1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948DB54-614E-47EC-8D04-E5EBF006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0DB5D08-0CE6-40EA-8340-CA107BDF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644B3B7-C09C-4019-AA31-70DAC64B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95F6971-C007-4343-836F-60FBF07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E907412-592B-4686-8BD5-C94FA357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BD52B02-7E28-4C0A-9617-D0747E3F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D179312-D292-437E-BA36-722C0DB9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1A84CEC-4456-49F0-925D-5FEB02B4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5412826-EF54-4FC4-8E9D-C05C78DF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D9D24DD-7D42-4F31-A531-2B09C6AD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74F6D08-0BEF-47F8-A662-807F4C3D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B28BA55-66F5-4BB3-8363-DA368E76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16F50FC-F018-4683-B862-6AAF2156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29269C4-EF9A-4F41-BFAB-F251F2A3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9E1E928-A8B5-4121-9032-0C54E59D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4A20D5F-682F-4EBA-9615-29F0176A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1B0BF93-B780-47B0-9610-5EAB29CD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499183F-0987-4A53-B864-4186E1E4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48DE175-0DBE-4BB3-944D-DD5D6F22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3B72CE0-0D05-4A35-8C90-7B03242C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307C99B-5CFA-4EAA-9F72-8900FC18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C869FF3-9F7A-4296-8C53-6C63B0BC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55DE0F7-1FBD-4A5C-B002-D745A9A9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5F8C8DE-333A-43A0-80F0-6CB54AD2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3B262B3-D381-438F-9913-1B33654F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56C749D-5E4D-40F1-8688-F38620A8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00E1478-F572-453E-B151-C124159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2D65378-9E5C-4F05-A0E1-8F3AAAF6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8048A43-B073-49EB-AA19-48329AA6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4DB73A2-1734-41BD-9519-28F282E3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CFE64E3-5220-4CA8-AFC1-093A400F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7BAD273-54D8-4F56-9DED-5157F836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5850A90-BBB5-49CA-92F3-5A55224A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471C1C7-C892-40D5-A01A-2AC8EC7D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5BFB2BC-78DB-4744-8916-36C0A1E5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34148E6-551C-4DEE-8102-89EDE369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E58488C-34F6-41E2-AA82-A95DBC93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2695885-8A3E-4B09-AA8B-FFC25994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539EB25-827B-4BB0-886D-4C1D757B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A2F5AA3-0A4D-4CB7-9AF3-810B2898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4C0BAF2-B2EB-46C3-8596-1FAA95BE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33078F5-43EA-464A-B8C9-3223B388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89B4B6-FB1A-473A-B808-D9FCB06C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F03106-E219-4D45-A6D3-5D0EF228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7B276C5-487A-4D49-A58E-7FDF4C28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FAF97D5-0079-4D93-AD65-422B2ECE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4B3889F-A67A-4309-9EBB-34B68DFB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727BBC2-A4DA-4769-B7B5-F07DB2E9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00ADD3B-8C61-4DA0-89F7-5D61CCFC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00CADE6-8E37-408C-9460-0A9CBA67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CCD1F80-4578-46C0-8F48-0B232BC3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EAFE4DA-AAA5-45DF-BE4A-E3A359C9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CAB1626-B40E-46A2-970E-34E1155D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B3A366F-25C0-4BE2-90B2-57D7BF96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C4349D1-1883-4A78-BCB9-30C7F0DB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B6E-0D0F-466F-89EA-787CFC57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3DACE7A-472C-474E-8A1E-C4AC3DF2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01B8619-B611-44DD-9E81-21D0A748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36CC123-DBDD-4972-B0B2-6600526A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0B616B4-CE0E-4BE4-AD4D-6B712B6D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E96FEF1-2D63-4F22-8704-41A990C4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4608CFA-D715-4169-988B-79DD66C7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C0A4957-58B7-4FE3-BCD6-875DB619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E0BA5AA-D550-4E7D-A37C-E6E56BB9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26E204B-1CDA-4124-9070-9532FB70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302B5BB-F9D1-4B28-ABA7-ECFB9A53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1874356-1EF1-4DA2-9766-9A4A2E41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263F1BC-6016-49E5-9012-C3808FA3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6A66BCA-397F-40B4-ABEE-54E7D21E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0759D1D-E878-4AB9-BF57-048E63CD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4DEA83A-43B1-41B9-AB8D-27B4516D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88D5DC9-D45E-46F1-845A-96157C4D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7FABB50-15BF-46C7-AF09-DA71D95C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63160D1-81FB-4364-A7FF-3415D751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3D81AE2-33B8-4640-97A1-A472A80F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C4D101B-B5A9-4F6F-BDB2-9806130F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C208D1C-D410-49C7-B7E5-3139FBC4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457BE0D-1514-439B-84F5-064409A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B9BEEFE-216B-4CFE-9FBA-0DC9B19C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CE5E20C-5F3A-4826-A39D-13481664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4D0BE61-85DD-4F8C-806A-179FD971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EE54C7-AAC7-4059-AA4F-DF2713FF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E734C-819C-449C-A6CE-10236F55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2D576-9A16-456F-BAE4-A5F2DCE6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D9C-1936-46DA-B6AE-AFF34CBF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BC0C4-76C7-41AF-844D-9D1E3E1E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EDD5C-4E96-454C-B3AE-9A5E61BA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87E5C-DBA7-4AF8-ACA6-4D1DE98F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6987D-0851-4517-A971-CBD9B4E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9372F-2986-4117-8111-E7754380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5D24A-DD9A-4F86-81DF-26CCFF13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A5F50E-FFCC-45BC-BED9-F91C97B9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37C43F-A950-42A4-A792-73367E3A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E917EC-3727-421A-8D2D-8B18D161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41A1D9-D118-4E47-BBC5-99246250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1E8-C205-4090-82F7-939F6F96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FB2C73-58D9-4F87-9978-AEAC6A98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93C480-FB86-4EF7-A5C8-0BA8A371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1415E4-1928-4B8C-A301-7D111D91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9B494F-BD17-41B8-AE8A-18777859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E4F181-5BF4-4F1C-A28E-7D55FD96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065357-FA05-4E1B-B5DB-8A6A19B2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51E3DA-D398-43DE-92FF-D7163E89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FDC0D0-0F2A-4F23-AE88-7921D529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859E46-D5F0-469C-AE3F-9FE40007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634682-D64F-4C52-B976-D64EDC07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791-C668-4CD6-ACD7-6EF8BF03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4A1081-FFFB-4AFD-9879-8C01980F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513209-B6C5-4918-949F-FA8138A6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506612-7BB6-4350-A915-8BDEA266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24D1E9-7C93-489B-A831-11969238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86B50A-FF10-42E5-8154-7375571F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2A30A8-B502-4F77-B248-50799323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FFBB96-FF1C-4196-9DBB-F29F23F9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439ABF-FB30-42AC-BFA4-3C257B92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2F157A-C118-488C-9E31-2DBC2220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4EC73A-9EFD-42BE-804D-B19FDC04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E8E-78ED-4BA9-987F-3AC1F852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A53CC1-685D-485D-A842-EBB9773E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321A38-3EBA-4C8B-B4F9-B5351494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AEA7A9-1FF8-4567-A6C4-7AB14452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7E6974-2ECC-49CF-B94D-C3F2C879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D99729-503C-4B2F-B3E8-2F1CA564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51F529-6448-4D9F-B31D-88F0F141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3CA8FC-B827-4966-AA84-2AEBB176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97B7D0-402E-49A0-9E27-E7989939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CB1812-F201-41A3-B3B3-6398CC4D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2B63DC-E089-4664-8AF4-7ADDF1CE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CFC-1F20-4D39-86F1-37678522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A64AD3-F0FE-4003-A15D-0744F83C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967796-A14B-49F7-9C15-9836371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9E728A-0321-43EC-A2FA-765E70A0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1552CE-19DD-42A2-B3C8-FE9EDCA6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F47771-83A0-44A2-B01B-4B5BFF5E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D9FFD9-70C9-4147-BF2F-30DD7770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030BAD-4922-4D1D-B722-6062548F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CB4B55-F6BB-4319-8FDD-873505CB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6FAACF-6356-4596-901B-19DB363A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11B5CC-ADD4-4305-9FC1-1908F834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E69-47D7-44A1-A411-90FA5C0E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2A5D08-B784-4C47-A1C2-A2F9E838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69CC03-E503-4A70-8E28-65BD43EB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63350F-79BC-4756-B262-E6FF2722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08DF34-98A9-485A-B566-799D456B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EBB4C1-1F1F-45E1-ABE2-1347AE25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29DBF2-B072-4202-9843-262CF908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18DC89-65EF-4B1F-9DB5-2D139C4A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A412A-538B-4B0B-8DE9-DB91B607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60B55-8082-435D-B11D-2FFF6EA7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F0AF0-9E39-4FE0-94A6-0A7B3F63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D0FC-E504-495F-912B-0D4C7207BF1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9429-5E99-48E4-BBE0-63C0E56A592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FF43-1248-4274-AF81-1DD973A3967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6AEC-5D91-4C5F-9A41-7A9B3B6370E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6756-2574-4D7E-AE22-B2276416332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2C54-C321-495D-829B-78EA25DAE94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632F-8D36-4707-81AF-FA7E99629FD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A476-CCEA-46E7-8DFF-58B61355867C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37BA-E5D7-4082-B76B-9D8F3734B35E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5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D151-D164-4F93-8577-64D4B3B90EC6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0271-F7FD-46DB-AC22-ADC52D06A047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C613-4C36-42F0-B285-9B8220EE8EE0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075E-0946-4B52-BB1B-31E44D9BB7D7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6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6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D073-947B-43FB-9ACD-7845A3AC2185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E59B-3C2C-403D-8FE0-D58AB3CDBE49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6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6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2641-74D4-46B7-AA7A-3C5272282A1B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6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7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E0DF-3893-4FD1-8394-C3301BBE5F14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7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7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7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0AC4-B3E6-4292-88DE-AB53D10CABD5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7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7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E47A-7AD7-437B-8C00-ED886529DF8E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dt" idx="77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dt" idx="78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ftr" idx="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sldNum" idx="8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7B5D-AE1D-446A-9DD0-E43B20DECF14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4711-9C5D-46C8-90D1-6CB225C92760}" type="slidenum">
              <a:rPr b="0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634B-9ED0-4172-A33C-FF920006786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46D4-9E01-4643-BE16-D1A2FC9E4F8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3658-81A6-44CA-B8AD-DAAB158AD77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D565-0ABF-4A15-A2DF-B3599D90614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4ABE-D505-497F-A67B-FA319128764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5"/>
          <p:cNvSpPr/>
          <p:nvPr/>
        </p:nvSpPr>
        <p:spPr>
          <a:xfrm>
            <a:off x="539640" y="1413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2"/>
          <p:cNvSpPr/>
          <p:nvPr/>
        </p:nvSpPr>
        <p:spPr>
          <a:xfrm>
            <a:off x="4211640" y="765000"/>
            <a:ext cx="493236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Burning Hydroge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7" name="Picture 4" descr="TESTTE"/>
          <p:cNvPicPr/>
          <p:nvPr/>
        </p:nvPicPr>
        <p:blipFill>
          <a:blip r:embed="rId1"/>
          <a:stretch/>
        </p:blipFill>
        <p:spPr>
          <a:xfrm flipH="1" rot="2070600">
            <a:off x="5585760" y="1499400"/>
            <a:ext cx="433440" cy="2325960"/>
          </a:xfrm>
          <a:prstGeom prst="rect">
            <a:avLst/>
          </a:prstGeom>
          <a:ln w="0">
            <a:noFill/>
          </a:ln>
        </p:spPr>
      </p:pic>
      <p:grpSp>
        <p:nvGrpSpPr>
          <p:cNvPr id="1288" name="Group 5"/>
          <p:cNvGrpSpPr/>
          <p:nvPr/>
        </p:nvGrpSpPr>
        <p:grpSpPr>
          <a:xfrm>
            <a:off x="6401160" y="852480"/>
            <a:ext cx="2208240" cy="2111400"/>
            <a:chOff x="6401160" y="852480"/>
            <a:chExt cx="2208240" cy="2111400"/>
          </a:xfrm>
        </p:grpSpPr>
        <p:sp>
          <p:nvSpPr>
            <p:cNvPr id="1289" name="Rectangle 6"/>
            <p:cNvSpPr/>
            <p:nvPr/>
          </p:nvSpPr>
          <p:spPr>
            <a:xfrm rot="2062800">
              <a:off x="6378120" y="2231280"/>
              <a:ext cx="2428920" cy="51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0" name="Freeform 7"/>
            <p:cNvSpPr/>
            <p:nvPr/>
          </p:nvSpPr>
          <p:spPr>
            <a:xfrm>
              <a:off x="6401160" y="852480"/>
              <a:ext cx="338400" cy="734760"/>
            </a:xfrm>
            <a:prstGeom prst="pi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1" name="Freeform 8"/>
            <p:cNvSpPr/>
            <p:nvPr/>
          </p:nvSpPr>
          <p:spPr>
            <a:xfrm>
              <a:off x="6481800" y="1197720"/>
              <a:ext cx="154800" cy="389520"/>
            </a:xfrm>
            <a:prstGeom prst="pi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2" name="Group 9"/>
          <p:cNvGrpSpPr/>
          <p:nvPr/>
        </p:nvGrpSpPr>
        <p:grpSpPr>
          <a:xfrm>
            <a:off x="6378480" y="2436840"/>
            <a:ext cx="1239840" cy="826920"/>
            <a:chOff x="6378480" y="2436840"/>
            <a:chExt cx="1239840" cy="826920"/>
          </a:xfrm>
        </p:grpSpPr>
        <p:sp>
          <p:nvSpPr>
            <p:cNvPr id="1293" name="AutoShape 10"/>
            <p:cNvSpPr/>
            <p:nvPr/>
          </p:nvSpPr>
          <p:spPr>
            <a:xfrm>
              <a:off x="6378480" y="2436840"/>
              <a:ext cx="1239840" cy="826920"/>
            </a:xfrm>
            <a:prstGeom prst="irregularSeal2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4" name="Text Box 11"/>
            <p:cNvSpPr/>
            <p:nvPr/>
          </p:nvSpPr>
          <p:spPr>
            <a:xfrm>
              <a:off x="6481440" y="269532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“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POP”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95" name="Text Box 12"/>
          <p:cNvSpPr/>
          <p:nvPr/>
        </p:nvSpPr>
        <p:spPr>
          <a:xfrm>
            <a:off x="0" y="1413000"/>
            <a:ext cx="41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cc"/>
                </a:solidFill>
                <a:latin typeface="Comic Sans MS"/>
                <a:ea typeface="Arial"/>
              </a:rPr>
              <a:t>Recall the test for hydrog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Text Box 13"/>
          <p:cNvSpPr/>
          <p:nvPr/>
        </p:nvSpPr>
        <p:spPr>
          <a:xfrm>
            <a:off x="0" y="393372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  <a:ea typeface="Arial"/>
              </a:rPr>
              <a:t>The rea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Text Box 14"/>
          <p:cNvSpPr/>
          <p:nvPr/>
        </p:nvSpPr>
        <p:spPr>
          <a:xfrm>
            <a:off x="395280" y="59515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ydro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8" name="Group 15"/>
          <p:cNvGrpSpPr/>
          <p:nvPr/>
        </p:nvGrpSpPr>
        <p:grpSpPr>
          <a:xfrm>
            <a:off x="2195640" y="4941720"/>
            <a:ext cx="1764000" cy="642960"/>
            <a:chOff x="2195640" y="4941720"/>
            <a:chExt cx="1764000" cy="642960"/>
          </a:xfrm>
        </p:grpSpPr>
        <p:grpSp>
          <p:nvGrpSpPr>
            <p:cNvPr id="1299" name="Group 16"/>
            <p:cNvGrpSpPr/>
            <p:nvPr/>
          </p:nvGrpSpPr>
          <p:grpSpPr>
            <a:xfrm>
              <a:off x="2987640" y="4941720"/>
              <a:ext cx="972000" cy="642960"/>
              <a:chOff x="2987640" y="4941720"/>
              <a:chExt cx="972000" cy="642960"/>
            </a:xfrm>
          </p:grpSpPr>
          <p:grpSp>
            <p:nvGrpSpPr>
              <p:cNvPr id="1300" name="Group 17"/>
              <p:cNvGrpSpPr/>
              <p:nvPr/>
            </p:nvGrpSpPr>
            <p:grpSpPr>
              <a:xfrm>
                <a:off x="3447720" y="5081400"/>
                <a:ext cx="511920" cy="503280"/>
                <a:chOff x="3447720" y="5081400"/>
                <a:chExt cx="511920" cy="503280"/>
              </a:xfrm>
            </p:grpSpPr>
            <p:sp>
              <p:nvSpPr>
                <p:cNvPr id="1301" name="Oval 18"/>
                <p:cNvSpPr/>
                <p:nvPr/>
              </p:nvSpPr>
              <p:spPr>
                <a:xfrm>
                  <a:off x="3456720" y="5081400"/>
                  <a:ext cx="502920" cy="50328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2" name="Text Box 19"/>
                <p:cNvSpPr/>
                <p:nvPr/>
              </p:nvSpPr>
              <p:spPr>
                <a:xfrm>
                  <a:off x="3447720" y="5176800"/>
                  <a:ext cx="502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3" name="Group 20"/>
              <p:cNvGrpSpPr/>
              <p:nvPr/>
            </p:nvGrpSpPr>
            <p:grpSpPr>
              <a:xfrm>
                <a:off x="2987640" y="4941720"/>
                <a:ext cx="511920" cy="503280"/>
                <a:chOff x="2987640" y="4941720"/>
                <a:chExt cx="511920" cy="503280"/>
              </a:xfrm>
            </p:grpSpPr>
            <p:sp>
              <p:nvSpPr>
                <p:cNvPr id="1304" name="Oval 21"/>
                <p:cNvSpPr/>
                <p:nvPr/>
              </p:nvSpPr>
              <p:spPr>
                <a:xfrm>
                  <a:off x="2996640" y="4941720"/>
                  <a:ext cx="502920" cy="50328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5" name="Text Box 22"/>
                <p:cNvSpPr/>
                <p:nvPr/>
              </p:nvSpPr>
              <p:spPr>
                <a:xfrm>
                  <a:off x="2987640" y="5037120"/>
                  <a:ext cx="502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306" name="AutoShape 23"/>
            <p:cNvSpPr/>
            <p:nvPr/>
          </p:nvSpPr>
          <p:spPr>
            <a:xfrm>
              <a:off x="2195640" y="5086440"/>
              <a:ext cx="301320" cy="301320"/>
            </a:xfrm>
            <a:prstGeom prst="plus">
              <a:avLst>
                <a:gd name="adj" fmla="val 36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07" name="Group 24"/>
          <p:cNvGrpSpPr/>
          <p:nvPr/>
        </p:nvGrpSpPr>
        <p:grpSpPr>
          <a:xfrm>
            <a:off x="2124000" y="5951520"/>
            <a:ext cx="2016000" cy="398880"/>
            <a:chOff x="2124000" y="5951520"/>
            <a:chExt cx="2016000" cy="398880"/>
          </a:xfrm>
        </p:grpSpPr>
        <p:sp>
          <p:nvSpPr>
            <p:cNvPr id="1308" name="Text Box 25"/>
            <p:cNvSpPr/>
            <p:nvPr/>
          </p:nvSpPr>
          <p:spPr>
            <a:xfrm>
              <a:off x="2700360" y="595152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Oxygen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9" name="Text Box 26"/>
            <p:cNvSpPr/>
            <p:nvPr/>
          </p:nvSpPr>
          <p:spPr>
            <a:xfrm>
              <a:off x="2124000" y="59515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0" name="Group 27"/>
          <p:cNvGrpSpPr/>
          <p:nvPr/>
        </p:nvGrpSpPr>
        <p:grpSpPr>
          <a:xfrm>
            <a:off x="4211640" y="4583160"/>
            <a:ext cx="2376360" cy="1213920"/>
            <a:chOff x="4211640" y="4583160"/>
            <a:chExt cx="2376360" cy="1213920"/>
          </a:xfrm>
        </p:grpSpPr>
        <p:sp>
          <p:nvSpPr>
            <p:cNvPr id="1311" name="AutoShape 28"/>
            <p:cNvSpPr/>
            <p:nvPr/>
          </p:nvSpPr>
          <p:spPr>
            <a:xfrm>
              <a:off x="4211640" y="5159160"/>
              <a:ext cx="703080" cy="250920"/>
            </a:xfrm>
            <a:prstGeom prst="rightArrow">
              <a:avLst>
                <a:gd name="adj1" fmla="val 50000"/>
                <a:gd name="adj2" fmla="val 7005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12" name="Group 29"/>
            <p:cNvGrpSpPr/>
            <p:nvPr/>
          </p:nvGrpSpPr>
          <p:grpSpPr>
            <a:xfrm>
              <a:off x="5290920" y="4583160"/>
              <a:ext cx="1297080" cy="1213920"/>
              <a:chOff x="5290920" y="4583160"/>
              <a:chExt cx="1297080" cy="1213920"/>
            </a:xfrm>
          </p:grpSpPr>
          <p:grpSp>
            <p:nvGrpSpPr>
              <p:cNvPr id="1313" name="Group 30"/>
              <p:cNvGrpSpPr/>
              <p:nvPr/>
            </p:nvGrpSpPr>
            <p:grpSpPr>
              <a:xfrm>
                <a:off x="5684760" y="4583160"/>
                <a:ext cx="512640" cy="502920"/>
                <a:chOff x="5684760" y="4583160"/>
                <a:chExt cx="512640" cy="502920"/>
              </a:xfrm>
            </p:grpSpPr>
            <p:sp>
              <p:nvSpPr>
                <p:cNvPr id="1314" name="Oval 31"/>
                <p:cNvSpPr/>
                <p:nvPr/>
              </p:nvSpPr>
              <p:spPr>
                <a:xfrm>
                  <a:off x="5694120" y="4583160"/>
                  <a:ext cx="503280" cy="50292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15" name="Text Box 32"/>
                <p:cNvSpPr/>
                <p:nvPr/>
              </p:nvSpPr>
              <p:spPr>
                <a:xfrm>
                  <a:off x="5684760" y="4678200"/>
                  <a:ext cx="503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316" name="Oval 33"/>
              <p:cNvSpPr/>
              <p:nvPr/>
            </p:nvSpPr>
            <p:spPr>
              <a:xfrm>
                <a:off x="5290920" y="4717800"/>
                <a:ext cx="432000" cy="43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7" name="Text Box 34"/>
              <p:cNvSpPr/>
              <p:nvPr/>
            </p:nvSpPr>
            <p:spPr>
              <a:xfrm>
                <a:off x="5324400" y="47271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mic Sans MS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8" name="Oval 35"/>
              <p:cNvSpPr/>
              <p:nvPr/>
            </p:nvSpPr>
            <p:spPr>
              <a:xfrm>
                <a:off x="6156360" y="478908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9" name="Text Box 36"/>
              <p:cNvSpPr/>
              <p:nvPr/>
            </p:nvSpPr>
            <p:spPr>
              <a:xfrm>
                <a:off x="6189480" y="47988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mic Sans MS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20" name="Group 37"/>
              <p:cNvGrpSpPr/>
              <p:nvPr/>
            </p:nvGrpSpPr>
            <p:grpSpPr>
              <a:xfrm>
                <a:off x="5684760" y="5159160"/>
                <a:ext cx="512640" cy="502920"/>
                <a:chOff x="5684760" y="5159160"/>
                <a:chExt cx="512640" cy="502920"/>
              </a:xfrm>
            </p:grpSpPr>
            <p:sp>
              <p:nvSpPr>
                <p:cNvPr id="1321" name="Oval 38"/>
                <p:cNvSpPr/>
                <p:nvPr/>
              </p:nvSpPr>
              <p:spPr>
                <a:xfrm>
                  <a:off x="5694120" y="5159160"/>
                  <a:ext cx="503280" cy="50292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22" name="Text Box 39"/>
                <p:cNvSpPr/>
                <p:nvPr/>
              </p:nvSpPr>
              <p:spPr>
                <a:xfrm>
                  <a:off x="5684760" y="5254200"/>
                  <a:ext cx="503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323" name="Oval 40"/>
              <p:cNvSpPr/>
              <p:nvPr/>
            </p:nvSpPr>
            <p:spPr>
              <a:xfrm>
                <a:off x="5290920" y="5294160"/>
                <a:ext cx="432000" cy="43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4" name="Text Box 41"/>
              <p:cNvSpPr/>
              <p:nvPr/>
            </p:nvSpPr>
            <p:spPr>
              <a:xfrm>
                <a:off x="5324400" y="530352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mic Sans MS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5" name="Oval 42"/>
              <p:cNvSpPr/>
              <p:nvPr/>
            </p:nvSpPr>
            <p:spPr>
              <a:xfrm>
                <a:off x="6156360" y="536544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6" name="Text Box 43"/>
              <p:cNvSpPr/>
              <p:nvPr/>
            </p:nvSpPr>
            <p:spPr>
              <a:xfrm>
                <a:off x="6189480" y="53751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mic Sans MS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327" name="Group 44"/>
          <p:cNvGrpSpPr/>
          <p:nvPr/>
        </p:nvGrpSpPr>
        <p:grpSpPr>
          <a:xfrm>
            <a:off x="4211640" y="5951520"/>
            <a:ext cx="2336760" cy="398880"/>
            <a:chOff x="4211640" y="5951520"/>
            <a:chExt cx="2336760" cy="398880"/>
          </a:xfrm>
        </p:grpSpPr>
        <p:sp>
          <p:nvSpPr>
            <p:cNvPr id="1328" name="Text Box 45"/>
            <p:cNvSpPr/>
            <p:nvPr/>
          </p:nvSpPr>
          <p:spPr>
            <a:xfrm>
              <a:off x="5108400" y="595152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Water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9" name="Line 46"/>
            <p:cNvSpPr/>
            <p:nvPr/>
          </p:nvSpPr>
          <p:spPr>
            <a:xfrm>
              <a:off x="4211640" y="6167520"/>
              <a:ext cx="718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30" name="Group 47"/>
          <p:cNvGrpSpPr/>
          <p:nvPr/>
        </p:nvGrpSpPr>
        <p:grpSpPr>
          <a:xfrm>
            <a:off x="755640" y="4789440"/>
            <a:ext cx="830160" cy="1017360"/>
            <a:chOff x="755640" y="4789440"/>
            <a:chExt cx="830160" cy="1017360"/>
          </a:xfrm>
        </p:grpSpPr>
        <p:sp>
          <p:nvSpPr>
            <p:cNvPr id="1331" name="Oval 48"/>
            <p:cNvSpPr/>
            <p:nvPr/>
          </p:nvSpPr>
          <p:spPr>
            <a:xfrm>
              <a:off x="1154160" y="478944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2" name="Text Box 49"/>
            <p:cNvSpPr/>
            <p:nvPr/>
          </p:nvSpPr>
          <p:spPr>
            <a:xfrm>
              <a:off x="1187280" y="4798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33" name="Group 50"/>
            <p:cNvGrpSpPr/>
            <p:nvPr/>
          </p:nvGrpSpPr>
          <p:grpSpPr>
            <a:xfrm>
              <a:off x="755640" y="4798800"/>
              <a:ext cx="431640" cy="431640"/>
              <a:chOff x="755640" y="4798800"/>
              <a:chExt cx="431640" cy="431640"/>
            </a:xfrm>
          </p:grpSpPr>
          <p:sp>
            <p:nvSpPr>
              <p:cNvPr id="1334" name="Oval 51"/>
              <p:cNvSpPr/>
              <p:nvPr/>
            </p:nvSpPr>
            <p:spPr>
              <a:xfrm>
                <a:off x="755640" y="479880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5" name="Text Box 52"/>
              <p:cNvSpPr/>
              <p:nvPr/>
            </p:nvSpPr>
            <p:spPr>
              <a:xfrm>
                <a:off x="788760" y="480816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mic Sans MS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36" name="Oval 53"/>
            <p:cNvSpPr/>
            <p:nvPr/>
          </p:nvSpPr>
          <p:spPr>
            <a:xfrm>
              <a:off x="1154160" y="53658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7" name="Text Box 54"/>
            <p:cNvSpPr/>
            <p:nvPr/>
          </p:nvSpPr>
          <p:spPr>
            <a:xfrm>
              <a:off x="1187280" y="53751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38" name="Group 55"/>
            <p:cNvGrpSpPr/>
            <p:nvPr/>
          </p:nvGrpSpPr>
          <p:grpSpPr>
            <a:xfrm>
              <a:off x="755640" y="5375160"/>
              <a:ext cx="431640" cy="431640"/>
              <a:chOff x="755640" y="5375160"/>
              <a:chExt cx="431640" cy="431640"/>
            </a:xfrm>
          </p:grpSpPr>
          <p:sp>
            <p:nvSpPr>
              <p:cNvPr id="1339" name="Oval 56"/>
              <p:cNvSpPr/>
              <p:nvPr/>
            </p:nvSpPr>
            <p:spPr>
              <a:xfrm>
                <a:off x="755640" y="537516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0" name="Text Box 57"/>
              <p:cNvSpPr/>
              <p:nvPr/>
            </p:nvSpPr>
            <p:spPr>
              <a:xfrm>
                <a:off x="788760" y="538452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mic Sans MS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41" name="Text Box 58"/>
          <p:cNvSpPr/>
          <p:nvPr/>
        </p:nvSpPr>
        <p:spPr>
          <a:xfrm>
            <a:off x="7093080" y="4581360"/>
            <a:ext cx="2050920" cy="22885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tice that no carbon dioxide or carbon monoxide is produc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Gas Tests 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3" name="Text Box 4"/>
          <p:cNvSpPr/>
          <p:nvPr/>
        </p:nvSpPr>
        <p:spPr>
          <a:xfrm>
            <a:off x="0" y="1052640"/>
            <a:ext cx="914400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How would you test for the following g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If a glowing splint relights when placed in the test tube the gas is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Tahoma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y the pop test, place a flaming splint by the test tube mouth will ignite the hydrogen gas causing a p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Tahoma"/>
              </a:rPr>
              <a:t>Carbon diox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ubble the gas through limewater (Ca(OH)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the solution will turn  cloudy or milky (this is because a solid of Ca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forms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Line 4"/>
          <p:cNvSpPr/>
          <p:nvPr/>
        </p:nvSpPr>
        <p:spPr>
          <a:xfrm>
            <a:off x="4211640" y="11350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Rectangle 7"/>
          <p:cNvSpPr/>
          <p:nvPr/>
        </p:nvSpPr>
        <p:spPr>
          <a:xfrm>
            <a:off x="770040" y="270720"/>
            <a:ext cx="311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219320"/>
                <a:tab algn="l" pos="1371600"/>
                <a:tab algn="l" pos="144792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ortant rea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219320"/>
                <a:tab algn="l" pos="1371600"/>
                <a:tab algn="l" pos="144792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Rectangle 8"/>
          <p:cNvSpPr/>
          <p:nvPr/>
        </p:nvSpPr>
        <p:spPr>
          <a:xfrm>
            <a:off x="0" y="846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)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ID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TAL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Rectangle 10"/>
          <p:cNvSpPr/>
          <p:nvPr/>
        </p:nvSpPr>
        <p:spPr>
          <a:xfrm>
            <a:off x="732960" y="3074040"/>
            <a:ext cx="27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b)  Metal + wate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Line 12"/>
          <p:cNvSpPr/>
          <p:nvPr/>
        </p:nvSpPr>
        <p:spPr>
          <a:xfrm>
            <a:off x="3429000" y="371484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Line 13"/>
          <p:cNvSpPr/>
          <p:nvPr/>
        </p:nvSpPr>
        <p:spPr>
          <a:xfrm>
            <a:off x="3780000" y="23590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Text Box 14"/>
          <p:cNvSpPr/>
          <p:nvPr/>
        </p:nvSpPr>
        <p:spPr>
          <a:xfrm>
            <a:off x="857160" y="15001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n balanced example of an acid/metal reaction 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Text Box 16"/>
          <p:cNvSpPr/>
          <p:nvPr/>
        </p:nvSpPr>
        <p:spPr>
          <a:xfrm>
            <a:off x="755640" y="4149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An example 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Line 17"/>
          <p:cNvSpPr/>
          <p:nvPr/>
        </p:nvSpPr>
        <p:spPr>
          <a:xfrm>
            <a:off x="3143160" y="500076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Text Box 18"/>
          <p:cNvSpPr/>
          <p:nvPr/>
        </p:nvSpPr>
        <p:spPr>
          <a:xfrm>
            <a:off x="755640" y="2143080"/>
            <a:ext cx="70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Mg +  2HCl                MgCl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+   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Text Box 19"/>
          <p:cNvSpPr/>
          <p:nvPr/>
        </p:nvSpPr>
        <p:spPr>
          <a:xfrm>
            <a:off x="4932360" y="77472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etal salt +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Text Box 20"/>
          <p:cNvSpPr/>
          <p:nvPr/>
        </p:nvSpPr>
        <p:spPr>
          <a:xfrm>
            <a:off x="4143240" y="350028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Metal hydroxide +  hydrogen 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Text Box 21"/>
          <p:cNvSpPr/>
          <p:nvPr/>
        </p:nvSpPr>
        <p:spPr>
          <a:xfrm>
            <a:off x="0" y="471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Sodium +   water           sodium hydroxide  +   hydrogen 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Line 4"/>
          <p:cNvSpPr/>
          <p:nvPr/>
        </p:nvSpPr>
        <p:spPr>
          <a:xfrm>
            <a:off x="3780000" y="105264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Rectangle 8"/>
          <p:cNvSpPr/>
          <p:nvPr/>
        </p:nvSpPr>
        <p:spPr>
          <a:xfrm>
            <a:off x="0" y="8398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)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tal carbonate + ACID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Rectangle 10"/>
          <p:cNvSpPr/>
          <p:nvPr/>
        </p:nvSpPr>
        <p:spPr>
          <a:xfrm>
            <a:off x="0" y="242316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lcium carbonat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3995640" y="278136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3780000" y="49402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Text Box 14"/>
          <p:cNvSpPr/>
          <p:nvPr/>
        </p:nvSpPr>
        <p:spPr>
          <a:xfrm>
            <a:off x="0" y="40813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the balanced formula equation i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Text Box 18"/>
          <p:cNvSpPr/>
          <p:nvPr/>
        </p:nvSpPr>
        <p:spPr>
          <a:xfrm>
            <a:off x="755640" y="4724280"/>
            <a:ext cx="81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CaC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3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+  2HCl           CaCl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+   C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+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4140360" y="836640"/>
            <a:ext cx="50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Metal salt + carbon dioxide +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Rectangle 14"/>
          <p:cNvSpPr/>
          <p:nvPr/>
        </p:nvSpPr>
        <p:spPr>
          <a:xfrm>
            <a:off x="1506960" y="2421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Rectangle 15"/>
          <p:cNvSpPr/>
          <p:nvPr/>
        </p:nvSpPr>
        <p:spPr>
          <a:xfrm>
            <a:off x="4500720" y="2421000"/>
            <a:ext cx="127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alcium chlorid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Rectangle 16"/>
          <p:cNvSpPr/>
          <p:nvPr/>
        </p:nvSpPr>
        <p:spPr>
          <a:xfrm>
            <a:off x="6408000" y="2421000"/>
            <a:ext cx="13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arb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dioxid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Rectangle 17"/>
          <p:cNvSpPr/>
          <p:nvPr/>
        </p:nvSpPr>
        <p:spPr>
          <a:xfrm>
            <a:off x="8003160" y="26370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Rectangle 18"/>
          <p:cNvSpPr/>
          <p:nvPr/>
        </p:nvSpPr>
        <p:spPr>
          <a:xfrm>
            <a:off x="5898600" y="2565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Rectangle 19"/>
          <p:cNvSpPr/>
          <p:nvPr/>
        </p:nvSpPr>
        <p:spPr>
          <a:xfrm>
            <a:off x="7502760" y="2565360"/>
            <a:ext cx="5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Rectangle 10"/>
          <p:cNvSpPr/>
          <p:nvPr/>
        </p:nvSpPr>
        <p:spPr>
          <a:xfrm>
            <a:off x="1835280" y="242316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ydrochloric aci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Text Box 14"/>
          <p:cNvSpPr/>
          <p:nvPr/>
        </p:nvSpPr>
        <p:spPr>
          <a:xfrm>
            <a:off x="0" y="1916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An example word equation is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Text Box 4"/>
          <p:cNvSpPr/>
          <p:nvPr/>
        </p:nvSpPr>
        <p:spPr>
          <a:xfrm>
            <a:off x="0" y="0"/>
            <a:ext cx="942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Important</a:t>
            </a:r>
            <a:r>
              <a:rPr b="0" lang="en-NZ" sz="44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 reactions you must know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Text Box 8"/>
          <p:cNvSpPr/>
          <p:nvPr/>
        </p:nvSpPr>
        <p:spPr>
          <a:xfrm>
            <a:off x="714240" y="2000160"/>
            <a:ext cx="914400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etal + oxygen                metal 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Word eq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Magnesium +oxygen         magnesium oxi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Formula eq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2Mg + 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5" name="Line 9"/>
          <p:cNvSpPr/>
          <p:nvPr/>
        </p:nvSpPr>
        <p:spPr>
          <a:xfrm>
            <a:off x="2928960" y="4786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6" name="Text Box 11"/>
          <p:cNvSpPr/>
          <p:nvPr/>
        </p:nvSpPr>
        <p:spPr>
          <a:xfrm>
            <a:off x="4307760" y="450072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2M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Text Box 4"/>
          <p:cNvSpPr/>
          <p:nvPr/>
        </p:nvSpPr>
        <p:spPr>
          <a:xfrm>
            <a:off x="0" y="500040"/>
            <a:ext cx="88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Important reactions you must know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8" name="Line 15"/>
          <p:cNvSpPr/>
          <p:nvPr/>
        </p:nvSpPr>
        <p:spPr>
          <a:xfrm>
            <a:off x="3929040" y="2286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9" name="Line 15"/>
          <p:cNvSpPr/>
          <p:nvPr/>
        </p:nvSpPr>
        <p:spPr>
          <a:xfrm>
            <a:off x="4214880" y="35719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Text Box 8"/>
          <p:cNvSpPr/>
          <p:nvPr/>
        </p:nvSpPr>
        <p:spPr>
          <a:xfrm>
            <a:off x="0" y="7858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Word eq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sodium  + water       sodium hydroxide +hydrogen 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Formu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1" name="Line 9"/>
          <p:cNvSpPr/>
          <p:nvPr/>
        </p:nvSpPr>
        <p:spPr>
          <a:xfrm>
            <a:off x="3143160" y="414324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2" name="Text Box 13"/>
          <p:cNvSpPr/>
          <p:nvPr/>
        </p:nvSpPr>
        <p:spPr>
          <a:xfrm>
            <a:off x="4500720" y="3929040"/>
            <a:ext cx="324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NaOH   + 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3" name="Text Box 4"/>
          <p:cNvSpPr/>
          <p:nvPr/>
        </p:nvSpPr>
        <p:spPr>
          <a:xfrm>
            <a:off x="0" y="500040"/>
            <a:ext cx="942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Important</a:t>
            </a:r>
            <a:r>
              <a:rPr b="0" lang="en-NZ" sz="44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 reactions you must know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4" name="Line 15"/>
          <p:cNvSpPr/>
          <p:nvPr/>
        </p:nvSpPr>
        <p:spPr>
          <a:xfrm>
            <a:off x="3000240" y="16430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5" name="Line 15"/>
          <p:cNvSpPr/>
          <p:nvPr/>
        </p:nvSpPr>
        <p:spPr>
          <a:xfrm>
            <a:off x="3000240" y="30002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Rectangle 10"/>
          <p:cNvSpPr/>
          <p:nvPr/>
        </p:nvSpPr>
        <p:spPr>
          <a:xfrm>
            <a:off x="0" y="3929040"/>
            <a:ext cx="312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g    2Na  + 2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7" name="Rectangle 11"/>
          <p:cNvSpPr/>
          <p:nvPr/>
        </p:nvSpPr>
        <p:spPr>
          <a:xfrm>
            <a:off x="285840" y="135720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etal  + water         metal hydroxide + hydrogen 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8" name="TextBox 15"/>
          <p:cNvSpPr/>
          <p:nvPr/>
        </p:nvSpPr>
        <p:spPr>
          <a:xfrm>
            <a:off x="0" y="4786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Tahoma"/>
              </a:rPr>
              <a:t>How could you test for the hydrogen ga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9" name="Rectangle 16"/>
          <p:cNvSpPr/>
          <p:nvPr/>
        </p:nvSpPr>
        <p:spPr>
          <a:xfrm>
            <a:off x="642960" y="542916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Tahoma"/>
              </a:rPr>
              <a:t>Remember to go over you material flip car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0" name=""/>
          <p:cNvGraphicFramePr/>
          <p:nvPr/>
        </p:nvGraphicFramePr>
        <p:xfrm>
          <a:off x="285840" y="1214280"/>
          <a:ext cx="8675640" cy="822600"/>
        </p:xfrm>
        <a:graphic>
          <a:graphicData uri="http://schemas.openxmlformats.org/drawingml/2006/table">
            <a:tbl>
              <a:tblPr/>
              <a:tblGrid>
                <a:gridCol w="714240"/>
                <a:gridCol w="525600"/>
                <a:gridCol w="619200"/>
                <a:gridCol w="618840"/>
                <a:gridCol w="621000"/>
                <a:gridCol w="618840"/>
                <a:gridCol w="621000"/>
                <a:gridCol w="618840"/>
                <a:gridCol w="619200"/>
                <a:gridCol w="620640"/>
                <a:gridCol w="619200"/>
                <a:gridCol w="619200"/>
                <a:gridCol w="620640"/>
                <a:gridCol w="619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7c8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99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6699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66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9999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1" name="Text Box 108"/>
          <p:cNvSpPr/>
          <p:nvPr/>
        </p:nvSpPr>
        <p:spPr>
          <a:xfrm>
            <a:off x="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is is the pH scale –it is a measure of how acidic or basic a substance 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Text Box 109"/>
          <p:cNvSpPr/>
          <p:nvPr/>
        </p:nvSpPr>
        <p:spPr>
          <a:xfrm>
            <a:off x="0" y="2749680"/>
            <a:ext cx="9612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would be the pH of the following and the colour in universal indic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ulfur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NaO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Vineg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Dishwashing detergent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tomach acid (H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Text Box 110"/>
          <p:cNvSpPr/>
          <p:nvPr/>
        </p:nvSpPr>
        <p:spPr>
          <a:xfrm>
            <a:off x="3616200" y="276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Text Box 111"/>
          <p:cNvSpPr/>
          <p:nvPr/>
        </p:nvSpPr>
        <p:spPr>
          <a:xfrm>
            <a:off x="2411280" y="339732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Text Box 113"/>
          <p:cNvSpPr/>
          <p:nvPr/>
        </p:nvSpPr>
        <p:spPr>
          <a:xfrm>
            <a:off x="2700360" y="36860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1                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Text Box 114"/>
          <p:cNvSpPr/>
          <p:nvPr/>
        </p:nvSpPr>
        <p:spPr>
          <a:xfrm>
            <a:off x="2556000" y="41893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14              violet/pur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Text Box 115"/>
          <p:cNvSpPr/>
          <p:nvPr/>
        </p:nvSpPr>
        <p:spPr>
          <a:xfrm>
            <a:off x="3564000" y="46213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3-5            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8" name="Text Box 116"/>
          <p:cNvSpPr/>
          <p:nvPr/>
        </p:nvSpPr>
        <p:spPr>
          <a:xfrm>
            <a:off x="3564000" y="51973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7                g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9" name="Text Box 117"/>
          <p:cNvSpPr/>
          <p:nvPr/>
        </p:nvSpPr>
        <p:spPr>
          <a:xfrm>
            <a:off x="3348000" y="58467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10 - 12       blue/viol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Text Box 118"/>
          <p:cNvSpPr/>
          <p:nvPr/>
        </p:nvSpPr>
        <p:spPr>
          <a:xfrm>
            <a:off x="3276720" y="62974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1-2             red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TextBox 12"/>
          <p:cNvSpPr/>
          <p:nvPr/>
        </p:nvSpPr>
        <p:spPr>
          <a:xfrm>
            <a:off x="28584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Aci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2" name="TextBox 13"/>
          <p:cNvSpPr/>
          <p:nvPr/>
        </p:nvSpPr>
        <p:spPr>
          <a:xfrm>
            <a:off x="8286840" y="21430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3" name="TextBox 14"/>
          <p:cNvSpPr/>
          <p:nvPr/>
        </p:nvSpPr>
        <p:spPr>
          <a:xfrm>
            <a:off x="3857760" y="2143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Neut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Line 4"/>
          <p:cNvSpPr/>
          <p:nvPr/>
        </p:nvSpPr>
        <p:spPr>
          <a:xfrm>
            <a:off x="4211640" y="24210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Rectangle 8"/>
          <p:cNvSpPr/>
          <p:nvPr/>
        </p:nvSpPr>
        <p:spPr>
          <a:xfrm>
            <a:off x="0" y="21358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)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ID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se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Line 13"/>
          <p:cNvSpPr/>
          <p:nvPr/>
        </p:nvSpPr>
        <p:spPr>
          <a:xfrm>
            <a:off x="3780000" y="36450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Text Box 14"/>
          <p:cNvSpPr/>
          <p:nvPr/>
        </p:nvSpPr>
        <p:spPr>
          <a:xfrm>
            <a:off x="857160" y="27860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n balanced example of an acid/base reaction 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Text Box 18"/>
          <p:cNvSpPr/>
          <p:nvPr/>
        </p:nvSpPr>
        <p:spPr>
          <a:xfrm>
            <a:off x="755640" y="3429000"/>
            <a:ext cx="70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HCl +  NaO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       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NaCl    + 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Text Box 19"/>
          <p:cNvSpPr/>
          <p:nvPr/>
        </p:nvSpPr>
        <p:spPr>
          <a:xfrm>
            <a:off x="4932360" y="20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salt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Text Box 4"/>
          <p:cNvSpPr/>
          <p:nvPr/>
        </p:nvSpPr>
        <p:spPr>
          <a:xfrm>
            <a:off x="0" y="0"/>
            <a:ext cx="942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Important</a:t>
            </a:r>
            <a:r>
              <a:rPr b="0" lang="en-NZ" sz="44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 reactions you must know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TextBox 15"/>
          <p:cNvSpPr/>
          <p:nvPr/>
        </p:nvSpPr>
        <p:spPr>
          <a:xfrm>
            <a:off x="285840" y="785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Tahoma"/>
              </a:rPr>
              <a:t>Neutralisation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– where an acid and a base react to form a neutral solution with a pH of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TextBox 16"/>
          <p:cNvSpPr/>
          <p:nvPr/>
        </p:nvSpPr>
        <p:spPr>
          <a:xfrm>
            <a:off x="857160" y="471492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colour do you think the solution would  go with universal indicato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TextBox 17"/>
          <p:cNvSpPr/>
          <p:nvPr/>
        </p:nvSpPr>
        <p:spPr>
          <a:xfrm>
            <a:off x="1500120" y="5929200"/>
            <a:ext cx="5429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You got it – </a:t>
            </a:r>
            <a:r>
              <a:rPr b="0" lang="en-NZ" sz="2400" spc="-1" strike="noStrike">
                <a:solidFill>
                  <a:srgbClr val="00ff00"/>
                </a:solidFill>
                <a:latin typeface="Tahoma"/>
              </a:rPr>
              <a:t>green</a:t>
            </a: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 as the solution is now neut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4" name=""/>
          <p:cNvGraphicFramePr/>
          <p:nvPr/>
        </p:nvGraphicFramePr>
        <p:xfrm>
          <a:off x="684360" y="1052640"/>
          <a:ext cx="7272360" cy="5400720"/>
        </p:xfrm>
        <a:graphic>
          <a:graphicData uri="http://schemas.openxmlformats.org/drawingml/2006/table">
            <a:tbl>
              <a:tblPr/>
              <a:tblGrid>
                <a:gridCol w="3095640"/>
                <a:gridCol w="1944360"/>
                <a:gridCol w="223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ou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ulphur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Lithium hydr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LiO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itr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   </a:t>
                      </a: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window clean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Vineg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NZ" sz="2800" spc="-1" strike="noStrike" baseline="-30000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NZ" sz="28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5" name="Text Box 8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omplete the following table showing what colour each solution will go in universal indic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Text Box 106"/>
          <p:cNvSpPr/>
          <p:nvPr/>
        </p:nvSpPr>
        <p:spPr>
          <a:xfrm>
            <a:off x="4211640" y="2276640"/>
            <a:ext cx="187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H</a:t>
            </a:r>
            <a:r>
              <a:rPr b="0" lang="en-NZ" sz="2400" spc="-1" strike="noStrike" baseline="-25000">
                <a:solidFill>
                  <a:srgbClr val="66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SO</a:t>
            </a:r>
            <a:r>
              <a:rPr b="0" lang="en-NZ" sz="2400" spc="-1" strike="noStrike" baseline="-25000">
                <a:solidFill>
                  <a:srgbClr val="66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Text Box 107"/>
          <p:cNvSpPr/>
          <p:nvPr/>
        </p:nvSpPr>
        <p:spPr>
          <a:xfrm>
            <a:off x="6372360" y="22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Text Box 108"/>
          <p:cNvSpPr/>
          <p:nvPr/>
        </p:nvSpPr>
        <p:spPr>
          <a:xfrm>
            <a:off x="572436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Violet/pur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9" name="Text Box 109"/>
          <p:cNvSpPr/>
          <p:nvPr/>
        </p:nvSpPr>
        <p:spPr>
          <a:xfrm>
            <a:off x="2268360" y="6237360"/>
            <a:ext cx="19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0" name="Text Box 110"/>
          <p:cNvSpPr/>
          <p:nvPr/>
        </p:nvSpPr>
        <p:spPr>
          <a:xfrm>
            <a:off x="4140360" y="4005360"/>
            <a:ext cx="208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HNO</a:t>
            </a:r>
            <a:r>
              <a:rPr b="0" lang="en-NZ" sz="2400" spc="-1" strike="noStrike" baseline="-25000">
                <a:solidFill>
                  <a:srgbClr val="66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Text Box 111"/>
          <p:cNvSpPr/>
          <p:nvPr/>
        </p:nvSpPr>
        <p:spPr>
          <a:xfrm>
            <a:off x="6227640" y="40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Text Box 112"/>
          <p:cNvSpPr/>
          <p:nvPr/>
        </p:nvSpPr>
        <p:spPr>
          <a:xfrm>
            <a:off x="5724360" y="465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Violet/pur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3" name="Text Box 116"/>
          <p:cNvSpPr/>
          <p:nvPr/>
        </p:nvSpPr>
        <p:spPr>
          <a:xfrm>
            <a:off x="3995640" y="5300640"/>
            <a:ext cx="151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CH</a:t>
            </a:r>
            <a:r>
              <a:rPr b="0" lang="en-NZ" sz="2400" spc="-1" strike="noStrike" baseline="-25000">
                <a:solidFill>
                  <a:srgbClr val="66ffff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COO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4" name="Text Box 117"/>
          <p:cNvSpPr/>
          <p:nvPr/>
        </p:nvSpPr>
        <p:spPr>
          <a:xfrm>
            <a:off x="6012000" y="5300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Text Box 118"/>
          <p:cNvSpPr/>
          <p:nvPr/>
        </p:nvSpPr>
        <p:spPr>
          <a:xfrm>
            <a:off x="6084720" y="59500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Text Box 4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Define these acid base term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7" name="Text Box 5"/>
          <p:cNvSpPr/>
          <p:nvPr/>
        </p:nvSpPr>
        <p:spPr>
          <a:xfrm>
            <a:off x="324000" y="1125360"/>
            <a:ext cx="8820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 base that contains OH ions and dissolves in water </a:t>
            </a:r>
            <a:r>
              <a:rPr b="0" lang="en-NZ" sz="2400" spc="-1" strike="noStrike">
                <a:solidFill>
                  <a:srgbClr val="66ccff"/>
                </a:solidFill>
                <a:latin typeface="Tahoma"/>
              </a:rPr>
              <a:t>is called an Alkali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– give an exa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Tahoma"/>
              </a:rPr>
              <a:t>eg  NaOH, KOH and these have pH of 14 and turn universal indicator pur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 pH sc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Tahoma"/>
              </a:rPr>
              <a:t>The scale form 1- 14 that measures how acidic or basic a substance 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71 numbers Q 6 and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4"/>
          <p:cNvSpPr/>
          <p:nvPr/>
        </p:nvSpPr>
        <p:spPr>
          <a:xfrm>
            <a:off x="395280" y="333360"/>
            <a:ext cx="7993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How do you collect gas underwat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Tahoma"/>
              </a:rPr>
              <a:t>Read Unit A3 (Acid Reactio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NZ" sz="2400" spc="-1" strike="noStrike">
                <a:solidFill>
                  <a:srgbClr val="ffffff"/>
                </a:solidFill>
                <a:latin typeface="Tahoma"/>
              </a:rPr>
              <a:t>pgs 76 -77 complete Q’s 5, 6 and 8 pg 7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9" name="Text Box 5"/>
          <p:cNvSpPr/>
          <p:nvPr/>
        </p:nvSpPr>
        <p:spPr>
          <a:xfrm>
            <a:off x="395280" y="7858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Tahoma"/>
              </a:rPr>
              <a:t>Read pH in everyday life page 80 – 81 you must know household acids e.g vinegar, citric acid and tartaric ac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Text Box 6"/>
          <p:cNvSpPr/>
          <p:nvPr/>
        </p:nvSpPr>
        <p:spPr>
          <a:xfrm>
            <a:off x="428760" y="3643200"/>
            <a:ext cx="78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Tahoma"/>
              </a:rPr>
              <a:t>You also must know common household 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Tahoma"/>
              </a:rPr>
              <a:t>These are usually common </a:t>
            </a: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household cleaners </a:t>
            </a:r>
            <a:r>
              <a:rPr b="1" lang="en-GB" sz="2400" spc="-1" strike="noStrike">
                <a:solidFill>
                  <a:srgbClr val="66ffff"/>
                </a:solidFill>
                <a:latin typeface="Tahoma"/>
              </a:rPr>
              <a:t>eg  oven cleaner, window cleaner, soa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Text Box 4"/>
          <p:cNvSpPr/>
          <p:nvPr/>
        </p:nvSpPr>
        <p:spPr>
          <a:xfrm>
            <a:off x="395280" y="333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Know the metal properties and uses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read meet the metals page 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Text Box 5"/>
          <p:cNvSpPr/>
          <p:nvPr/>
        </p:nvSpPr>
        <p:spPr>
          <a:xfrm>
            <a:off x="539640" y="1700280"/>
            <a:ext cx="8136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escribe why metals exhibit the following properti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uctile, Malleable, Strength, condu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Tahoma"/>
              </a:rPr>
              <a:t>Name some metals and their uses eg Aluminium (Al), gold (Au), lead (P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Text Box 4"/>
          <p:cNvSpPr/>
          <p:nvPr/>
        </p:nvSpPr>
        <p:spPr>
          <a:xfrm>
            <a:off x="324000" y="47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Tahoma"/>
              </a:rPr>
              <a:t>Be able to write word equation and balanced equation for the complete combustion of a simple fuel eg methane  pg 9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Text Box 5"/>
          <p:cNvSpPr/>
          <p:nvPr/>
        </p:nvSpPr>
        <p:spPr>
          <a:xfrm>
            <a:off x="250920" y="1989000"/>
            <a:ext cx="8569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ff"/>
                </a:solidFill>
                <a:latin typeface="Tahoma"/>
              </a:rPr>
              <a:t>Know about polymers and what they are made from ie what are their sub uni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ff"/>
                </a:solidFill>
                <a:latin typeface="Tahoma"/>
              </a:rPr>
              <a:t>Name some polymers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natural polymer eg starch is made of many units of 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and man made polymer eg PV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ff"/>
                </a:solidFill>
                <a:latin typeface="Tahoma"/>
              </a:rPr>
              <a:t>read making plastics M4 page 96 - 97 in pathfi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Rectangle 7"/>
          <p:cNvSpPr/>
          <p:nvPr/>
        </p:nvSpPr>
        <p:spPr>
          <a:xfrm>
            <a:off x="1272960" y="537372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Know the structure of the atom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Text Box 4"/>
          <p:cNvSpPr/>
          <p:nvPr/>
        </p:nvSpPr>
        <p:spPr>
          <a:xfrm>
            <a:off x="428760" y="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66ffff"/>
                </a:solidFill>
                <a:latin typeface="Tahoma"/>
              </a:rPr>
              <a:t>Electric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Text Box 5"/>
          <p:cNvSpPr/>
          <p:nvPr/>
        </p:nvSpPr>
        <p:spPr>
          <a:xfrm>
            <a:off x="0" y="642960"/>
            <a:ext cx="91440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Comic Sans MS"/>
              </a:rPr>
              <a:t>Be familiar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Static and current electricity know the difference(page 5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ff"/>
                </a:solidFill>
                <a:latin typeface="Comic Sans MS"/>
              </a:rPr>
              <a:t>Current and ammeters </a:t>
            </a: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– be able to place ammeters in circu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ff"/>
                </a:solidFill>
                <a:latin typeface="Comic Sans MS"/>
              </a:rPr>
              <a:t>Voltage and voltmeters </a:t>
            </a: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– be able to place voltmeters in circu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ff"/>
                </a:solidFill>
                <a:latin typeface="Comic Sans MS"/>
              </a:rPr>
              <a:t>Static vs current electricity </a:t>
            </a: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read E1 pg 52- 53 if you don’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ff"/>
                </a:solidFill>
                <a:latin typeface="Comic Sans MS"/>
              </a:rPr>
              <a:t>Conductors/ Insulators </a:t>
            </a: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– identify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ff"/>
                </a:solidFill>
                <a:latin typeface="Comic Sans MS"/>
              </a:rPr>
              <a:t>Series and parallel circuits </a:t>
            </a: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pages 56-57 Q’s 5,6,7,9 pg 5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Be able to use </a:t>
            </a:r>
            <a:r>
              <a:rPr b="1" lang="en-NZ" sz="2400" spc="-1" strike="noStrike">
                <a:solidFill>
                  <a:srgbClr val="66ffff"/>
                </a:solidFill>
                <a:latin typeface="Comic Sans MS"/>
              </a:rPr>
              <a:t>V=IR</a:t>
            </a: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 and </a:t>
            </a:r>
            <a:r>
              <a:rPr b="1" lang="en-NZ" sz="2400" spc="-1" strike="noStrike">
                <a:solidFill>
                  <a:srgbClr val="66ffff"/>
                </a:solidFill>
                <a:latin typeface="Comic Sans MS"/>
              </a:rPr>
              <a:t>P=VI</a:t>
            </a: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 look at old electricity test make sure you show all working </a:t>
            </a:r>
            <a:r>
              <a:rPr b="1" lang="en-NZ" sz="2400" spc="-1" strike="noStrike">
                <a:solidFill>
                  <a:srgbClr val="66ffff"/>
                </a:solidFill>
                <a:latin typeface="Comic Sans MS"/>
              </a:rPr>
              <a:t>Q7 &amp; 11 pg 6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Complete Simple component names and symbols </a:t>
            </a: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Q 2 pg 6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1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Know how to label the forces acting on an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e  </a:t>
            </a: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drag, weight, thrust,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eight (N) and mass (kgs) know what are they and what are they measured in be able to work out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weight (N)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given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m(kgs) using Fw = m x 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Label a spanner fulcrum and know how to measure torque using a formula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T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(Nm)= </a:t>
            </a: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f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(N) x </a:t>
            </a: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d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(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Know how to work out density (mass/v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Use Distance/ time graphs to describe the motion of an object 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read more from Unit F1 page 37 complete Q 3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5712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Be able to find the speed of an object from a distance time graph </a:t>
            </a:r>
            <a:br>
              <a:rPr sz="4400"/>
            </a:br>
            <a:br>
              <a:rPr sz="4400"/>
            </a:b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By being able to use the method on the next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1" name="Group 6"/>
          <p:cNvGrpSpPr/>
          <p:nvPr/>
        </p:nvGrpSpPr>
        <p:grpSpPr>
          <a:xfrm>
            <a:off x="1332000" y="1197000"/>
            <a:ext cx="5471280" cy="4752720"/>
            <a:chOff x="1332000" y="1197000"/>
            <a:chExt cx="5471280" cy="4752720"/>
          </a:xfrm>
        </p:grpSpPr>
        <p:sp>
          <p:nvSpPr>
            <p:cNvPr id="1442" name="Line 4"/>
            <p:cNvSpPr/>
            <p:nvPr/>
          </p:nvSpPr>
          <p:spPr>
            <a:xfrm flipV="1">
              <a:off x="1332000" y="1197000"/>
              <a:ext cx="0" cy="47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3" name="Line 5"/>
            <p:cNvSpPr/>
            <p:nvPr/>
          </p:nvSpPr>
          <p:spPr>
            <a:xfrm>
              <a:off x="1332000" y="5949720"/>
              <a:ext cx="54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aphicFrame>
        <p:nvGraphicFramePr>
          <p:cNvPr id="1444" name=""/>
          <p:cNvGraphicFramePr/>
          <p:nvPr/>
        </p:nvGraphicFramePr>
        <p:xfrm>
          <a:off x="1332000" y="1341360"/>
          <a:ext cx="5256000" cy="4608720"/>
        </p:xfrm>
        <a:graphic>
          <a:graphicData uri="http://schemas.openxmlformats.org/drawingml/2006/table">
            <a:tbl>
              <a:tblPr/>
              <a:tblGrid>
                <a:gridCol w="527040"/>
                <a:gridCol w="523800"/>
                <a:gridCol w="527040"/>
                <a:gridCol w="523800"/>
                <a:gridCol w="527040"/>
                <a:gridCol w="536760"/>
                <a:gridCol w="512640"/>
                <a:gridCol w="527040"/>
                <a:gridCol w="523800"/>
                <a:gridCol w="5270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5" name="Line 134"/>
          <p:cNvSpPr/>
          <p:nvPr/>
        </p:nvSpPr>
        <p:spPr>
          <a:xfrm flipV="1">
            <a:off x="1332000" y="4220640"/>
            <a:ext cx="2087640" cy="17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Line 135"/>
          <p:cNvSpPr/>
          <p:nvPr/>
        </p:nvSpPr>
        <p:spPr>
          <a:xfrm flipV="1">
            <a:off x="3419640" y="3068280"/>
            <a:ext cx="3168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Oval 138"/>
          <p:cNvSpPr/>
          <p:nvPr/>
        </p:nvSpPr>
        <p:spPr>
          <a:xfrm>
            <a:off x="6516720" y="29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8" name="Oval 139"/>
          <p:cNvSpPr/>
          <p:nvPr/>
        </p:nvSpPr>
        <p:spPr>
          <a:xfrm>
            <a:off x="3348000" y="414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9" name="Text Box 381"/>
          <p:cNvSpPr/>
          <p:nvPr/>
        </p:nvSpPr>
        <p:spPr>
          <a:xfrm>
            <a:off x="2124000" y="450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0" name="Text Box 387"/>
          <p:cNvSpPr/>
          <p:nvPr/>
        </p:nvSpPr>
        <p:spPr>
          <a:xfrm>
            <a:off x="4427640" y="3141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Text Box 388"/>
          <p:cNvSpPr/>
          <p:nvPr/>
        </p:nvSpPr>
        <p:spPr>
          <a:xfrm>
            <a:off x="1619280" y="5950080"/>
            <a:ext cx="5545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     2     3    4     5     6     7     8     9    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ime 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Text Box 390"/>
          <p:cNvSpPr/>
          <p:nvPr/>
        </p:nvSpPr>
        <p:spPr>
          <a:xfrm>
            <a:off x="250920" y="2997360"/>
            <a:ext cx="6840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Text Box 392"/>
          <p:cNvSpPr/>
          <p:nvPr/>
        </p:nvSpPr>
        <p:spPr>
          <a:xfrm>
            <a:off x="826920" y="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Finding speed from a distance time grap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4" name="Object 393"/>
              <p:cNvSpPr txBox="1"/>
              <p:nvPr/>
            </p:nvSpPr>
            <p:spPr>
              <a:xfrm>
                <a:off x="1406520" y="476280"/>
                <a:ext cx="59691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speed of section 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hange  in distance</m:t>
                            </m:r>
                            <m:r>
                              <m:t xml:space="preserve">(</m:t>
                            </m:r>
                            <m:r>
                              <m:t xml:space="preserve">Δd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hange in time 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5" name="Text Box 396"/>
          <p:cNvSpPr/>
          <p:nvPr/>
        </p:nvSpPr>
        <p:spPr>
          <a:xfrm flipV="1">
            <a:off x="755640" y="5803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Text Box 397"/>
          <p:cNvSpPr/>
          <p:nvPr/>
        </p:nvSpPr>
        <p:spPr>
          <a:xfrm>
            <a:off x="90000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7" name="Text Box 398"/>
          <p:cNvSpPr/>
          <p:nvPr/>
        </p:nvSpPr>
        <p:spPr>
          <a:xfrm>
            <a:off x="900000" y="4581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Text Box 399"/>
          <p:cNvSpPr/>
          <p:nvPr/>
        </p:nvSpPr>
        <p:spPr>
          <a:xfrm>
            <a:off x="826920" y="400536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9" name="Text Box 400"/>
          <p:cNvSpPr/>
          <p:nvPr/>
        </p:nvSpPr>
        <p:spPr>
          <a:xfrm>
            <a:off x="90000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0" name="Text Box 401"/>
          <p:cNvSpPr/>
          <p:nvPr/>
        </p:nvSpPr>
        <p:spPr>
          <a:xfrm>
            <a:off x="684360" y="2852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Text Box 402"/>
          <p:cNvSpPr/>
          <p:nvPr/>
        </p:nvSpPr>
        <p:spPr>
          <a:xfrm>
            <a:off x="900000" y="2349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2" name="Object 404"/>
              <p:cNvSpPr txBox="1"/>
              <p:nvPr/>
            </p:nvSpPr>
            <p:spPr>
              <a:xfrm>
                <a:off x="6732720" y="1484280"/>
                <a:ext cx="21081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peed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d</m:t>
                            </m:r>
                          </m:num>
                          <m:den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 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ed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ed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3" name="Text Box 405"/>
          <p:cNvSpPr/>
          <p:nvPr/>
        </p:nvSpPr>
        <p:spPr>
          <a:xfrm>
            <a:off x="6732720" y="3645000"/>
            <a:ext cx="216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rk out the speed for section 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4" name="Group 418"/>
          <p:cNvGrpSpPr/>
          <p:nvPr/>
        </p:nvGrpSpPr>
        <p:grpSpPr>
          <a:xfrm>
            <a:off x="1547640" y="5516640"/>
            <a:ext cx="1873440" cy="360360"/>
            <a:chOff x="1547640" y="5516640"/>
            <a:chExt cx="1873440" cy="360360"/>
          </a:xfrm>
        </p:grpSpPr>
        <p:sp>
          <p:nvSpPr>
            <p:cNvPr id="1465" name="Line 406"/>
            <p:cNvSpPr/>
            <p:nvPr/>
          </p:nvSpPr>
          <p:spPr>
            <a:xfrm>
              <a:off x="2771640" y="5877000"/>
              <a:ext cx="6494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6" name="AutoShape 407"/>
            <p:cNvSpPr/>
            <p:nvPr/>
          </p:nvSpPr>
          <p:spPr>
            <a:xfrm>
              <a:off x="2195640" y="5516640"/>
              <a:ext cx="215640" cy="288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7" name="Line 410"/>
            <p:cNvSpPr/>
            <p:nvPr/>
          </p:nvSpPr>
          <p:spPr>
            <a:xfrm flipH="1">
              <a:off x="1547640" y="5877000"/>
              <a:ext cx="14400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68" name="Group 416"/>
          <p:cNvGrpSpPr/>
          <p:nvPr/>
        </p:nvGrpSpPr>
        <p:grpSpPr>
          <a:xfrm>
            <a:off x="250920" y="4221000"/>
            <a:ext cx="792000" cy="1729080"/>
            <a:chOff x="250920" y="4221000"/>
            <a:chExt cx="792000" cy="1729080"/>
          </a:xfrm>
        </p:grpSpPr>
        <p:sp>
          <p:nvSpPr>
            <p:cNvPr id="1469" name="Line 411"/>
            <p:cNvSpPr/>
            <p:nvPr/>
          </p:nvSpPr>
          <p:spPr>
            <a:xfrm flipV="1">
              <a:off x="755640" y="4221000"/>
              <a:ext cx="0" cy="1440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0" name="Line 413"/>
            <p:cNvSpPr/>
            <p:nvPr/>
          </p:nvSpPr>
          <p:spPr>
            <a:xfrm>
              <a:off x="755640" y="551664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1" name="AutoShape 414"/>
            <p:cNvSpPr/>
            <p:nvPr/>
          </p:nvSpPr>
          <p:spPr>
            <a:xfrm>
              <a:off x="250920" y="4941720"/>
              <a:ext cx="217440" cy="28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2" name="Text Box 415"/>
            <p:cNvSpPr/>
            <p:nvPr/>
          </p:nvSpPr>
          <p:spPr>
            <a:xfrm>
              <a:off x="250920" y="47973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3" name="Text Box 419"/>
          <p:cNvSpPr/>
          <p:nvPr/>
        </p:nvSpPr>
        <p:spPr>
          <a:xfrm>
            <a:off x="2411280" y="53737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4" name="Group 2"/>
          <p:cNvGrpSpPr/>
          <p:nvPr/>
        </p:nvGrpSpPr>
        <p:grpSpPr>
          <a:xfrm>
            <a:off x="1258920" y="1197000"/>
            <a:ext cx="5471280" cy="4752720"/>
            <a:chOff x="1258920" y="1197000"/>
            <a:chExt cx="5471280" cy="4752720"/>
          </a:xfrm>
        </p:grpSpPr>
        <p:sp>
          <p:nvSpPr>
            <p:cNvPr id="1475" name="Line 3"/>
            <p:cNvSpPr/>
            <p:nvPr/>
          </p:nvSpPr>
          <p:spPr>
            <a:xfrm flipV="1">
              <a:off x="1258920" y="1197000"/>
              <a:ext cx="0" cy="47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6" name="Line 4"/>
            <p:cNvSpPr/>
            <p:nvPr/>
          </p:nvSpPr>
          <p:spPr>
            <a:xfrm>
              <a:off x="1258920" y="5949720"/>
              <a:ext cx="54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7" name="Line 106"/>
          <p:cNvSpPr/>
          <p:nvPr/>
        </p:nvSpPr>
        <p:spPr>
          <a:xfrm flipV="1">
            <a:off x="1332000" y="4220640"/>
            <a:ext cx="2087640" cy="17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8" name="Line 107"/>
          <p:cNvSpPr/>
          <p:nvPr/>
        </p:nvSpPr>
        <p:spPr>
          <a:xfrm flipV="1">
            <a:off x="3419640" y="3068280"/>
            <a:ext cx="3168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9" name="Oval 108"/>
          <p:cNvSpPr/>
          <p:nvPr/>
        </p:nvSpPr>
        <p:spPr>
          <a:xfrm>
            <a:off x="6516720" y="29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Oval 109"/>
          <p:cNvSpPr/>
          <p:nvPr/>
        </p:nvSpPr>
        <p:spPr>
          <a:xfrm>
            <a:off x="3348000" y="414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Text Box 110"/>
          <p:cNvSpPr/>
          <p:nvPr/>
        </p:nvSpPr>
        <p:spPr>
          <a:xfrm>
            <a:off x="2124000" y="450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2" name="Text Box 111"/>
          <p:cNvSpPr/>
          <p:nvPr/>
        </p:nvSpPr>
        <p:spPr>
          <a:xfrm>
            <a:off x="4427640" y="3141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3" name="Text Box 112"/>
          <p:cNvSpPr/>
          <p:nvPr/>
        </p:nvSpPr>
        <p:spPr>
          <a:xfrm>
            <a:off x="1619280" y="5950080"/>
            <a:ext cx="554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     2      3    4     5     6     7     8     9    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ime 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4" name="Text Box 113"/>
          <p:cNvSpPr/>
          <p:nvPr/>
        </p:nvSpPr>
        <p:spPr>
          <a:xfrm>
            <a:off x="250920" y="2997360"/>
            <a:ext cx="6840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5" name="Text Box 114"/>
          <p:cNvSpPr/>
          <p:nvPr/>
        </p:nvSpPr>
        <p:spPr>
          <a:xfrm>
            <a:off x="826920" y="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Finding the average speed of Section 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6" name="Object 115"/>
              <p:cNvSpPr txBox="1"/>
              <p:nvPr/>
            </p:nvSpPr>
            <p:spPr>
              <a:xfrm>
                <a:off x="644400" y="476280"/>
                <a:ext cx="59007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speed of section P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hange  in distance</m:t>
                            </m:r>
                            <m:r>
                              <m:t xml:space="preserve">(</m:t>
                            </m:r>
                            <m:r>
                              <m:t xml:space="preserve">Δd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hange in time 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7" name="Text Box 116"/>
          <p:cNvSpPr/>
          <p:nvPr/>
        </p:nvSpPr>
        <p:spPr>
          <a:xfrm flipV="1">
            <a:off x="755640" y="5803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8" name="Text Box 117"/>
          <p:cNvSpPr/>
          <p:nvPr/>
        </p:nvSpPr>
        <p:spPr>
          <a:xfrm>
            <a:off x="90000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9" name="Text Box 118"/>
          <p:cNvSpPr/>
          <p:nvPr/>
        </p:nvSpPr>
        <p:spPr>
          <a:xfrm>
            <a:off x="900000" y="4581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0" name="Text Box 119"/>
          <p:cNvSpPr/>
          <p:nvPr/>
        </p:nvSpPr>
        <p:spPr>
          <a:xfrm>
            <a:off x="826920" y="400536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1" name="Text Box 120"/>
          <p:cNvSpPr/>
          <p:nvPr/>
        </p:nvSpPr>
        <p:spPr>
          <a:xfrm>
            <a:off x="90000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2" name="Text Box 121"/>
          <p:cNvSpPr/>
          <p:nvPr/>
        </p:nvSpPr>
        <p:spPr>
          <a:xfrm>
            <a:off x="684360" y="2852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3" name="Text Box 122"/>
          <p:cNvSpPr/>
          <p:nvPr/>
        </p:nvSpPr>
        <p:spPr>
          <a:xfrm>
            <a:off x="900000" y="2349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4" name="Line 126"/>
          <p:cNvSpPr/>
          <p:nvPr/>
        </p:nvSpPr>
        <p:spPr>
          <a:xfrm>
            <a:off x="5086440" y="4292640"/>
            <a:ext cx="147168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5" name="AutoShape 127"/>
          <p:cNvSpPr/>
          <p:nvPr/>
        </p:nvSpPr>
        <p:spPr>
          <a:xfrm>
            <a:off x="5076720" y="3860640"/>
            <a:ext cx="273240" cy="34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6" name="Line 128"/>
          <p:cNvSpPr/>
          <p:nvPr/>
        </p:nvSpPr>
        <p:spPr>
          <a:xfrm flipH="1">
            <a:off x="3533400" y="4292640"/>
            <a:ext cx="1871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7" name="Line 130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8" name="Line 131"/>
          <p:cNvSpPr/>
          <p:nvPr/>
        </p:nvSpPr>
        <p:spPr>
          <a:xfrm>
            <a:off x="6804000" y="3789360"/>
            <a:ext cx="3240" cy="4334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9" name="AutoShape 132"/>
          <p:cNvSpPr/>
          <p:nvPr/>
        </p:nvSpPr>
        <p:spPr>
          <a:xfrm>
            <a:off x="6948360" y="3500280"/>
            <a:ext cx="35892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0" name="Text Box 133"/>
          <p:cNvSpPr/>
          <p:nvPr/>
        </p:nvSpPr>
        <p:spPr>
          <a:xfrm>
            <a:off x="7164360" y="342900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258920" y="1341360"/>
          <a:ext cx="5329080" cy="4606920"/>
        </p:xfrm>
        <a:graphic>
          <a:graphicData uri="http://schemas.openxmlformats.org/drawingml/2006/table">
            <a:tbl>
              <a:tblPr/>
              <a:tblGrid>
                <a:gridCol w="533520"/>
                <a:gridCol w="531720"/>
                <a:gridCol w="533520"/>
                <a:gridCol w="531720"/>
                <a:gridCol w="534960"/>
                <a:gridCol w="503280"/>
                <a:gridCol w="561960"/>
                <a:gridCol w="533160"/>
                <a:gridCol w="532080"/>
                <a:gridCol w="533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2" name="Text Box 509"/>
          <p:cNvSpPr/>
          <p:nvPr/>
        </p:nvSpPr>
        <p:spPr>
          <a:xfrm>
            <a:off x="5292720" y="378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3" name="Object 511"/>
          <p:cNvGraphicFramePr/>
          <p:nvPr/>
        </p:nvGraphicFramePr>
        <p:xfrm>
          <a:off x="6804000" y="1197000"/>
          <a:ext cx="2087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4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1197000"/>
                    <a:ext cx="2087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Text Box 4"/>
          <p:cNvSpPr/>
          <p:nvPr/>
        </p:nvSpPr>
        <p:spPr>
          <a:xfrm>
            <a:off x="539640" y="620640"/>
            <a:ext cx="777744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Hum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re will be some of these body systems in the ex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Text Box 4"/>
          <p:cNvSpPr/>
          <p:nvPr/>
        </p:nvSpPr>
        <p:spPr>
          <a:xfrm>
            <a:off x="684360" y="184464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ake notes on your diagram on the ear and glue it into your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structure of the atom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60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1161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3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4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5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Oval 9"/>
          <p:cNvSpPr/>
          <p:nvPr/>
        </p:nvSpPr>
        <p:spPr>
          <a:xfrm>
            <a:off x="1981080" y="4495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Oval 10"/>
          <p:cNvSpPr/>
          <p:nvPr/>
        </p:nvSpPr>
        <p:spPr>
          <a:xfrm>
            <a:off x="6095880" y="2438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AutoShape 11"/>
          <p:cNvSpPr/>
          <p:nvPr/>
        </p:nvSpPr>
        <p:spPr>
          <a:xfrm flipH="1" flipV="1" rot="7200000">
            <a:off x="6361920" y="1713600"/>
            <a:ext cx="1143000" cy="28958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9" name="Group 12"/>
          <p:cNvGrpSpPr/>
          <p:nvPr/>
        </p:nvGrpSpPr>
        <p:grpSpPr>
          <a:xfrm>
            <a:off x="2895480" y="1330200"/>
            <a:ext cx="3176640" cy="1557000"/>
            <a:chOff x="2895480" y="1330200"/>
            <a:chExt cx="3176640" cy="1557000"/>
          </a:xfrm>
        </p:grpSpPr>
        <p:sp>
          <p:nvSpPr>
            <p:cNvPr id="1170" name="AutoShape 13"/>
            <p:cNvSpPr/>
            <p:nvPr/>
          </p:nvSpPr>
          <p:spPr>
            <a:xfrm rot="11700000">
              <a:off x="5028840" y="2057400"/>
              <a:ext cx="990720" cy="533520"/>
            </a:xfrm>
            <a:prstGeom prst="leftArrow">
              <a:avLst>
                <a:gd name="adj1" fmla="val 50000"/>
                <a:gd name="adj2" fmla="val 46424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Text Box 14"/>
            <p:cNvSpPr/>
            <p:nvPr/>
          </p:nvSpPr>
          <p:spPr>
            <a:xfrm>
              <a:off x="2895480" y="1330200"/>
              <a:ext cx="2286000" cy="1557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ELECTRON – negative, mass nearly nothing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2" name="Group 15"/>
          <p:cNvGrpSpPr/>
          <p:nvPr/>
        </p:nvGrpSpPr>
        <p:grpSpPr>
          <a:xfrm>
            <a:off x="4835160" y="3611880"/>
            <a:ext cx="3481920" cy="2058120"/>
            <a:chOff x="4835160" y="3611880"/>
            <a:chExt cx="3481920" cy="2058120"/>
          </a:xfrm>
        </p:grpSpPr>
        <p:sp>
          <p:nvSpPr>
            <p:cNvPr id="1173" name="AutoShape 16"/>
            <p:cNvSpPr/>
            <p:nvPr/>
          </p:nvSpPr>
          <p:spPr>
            <a:xfrm rot="900000">
              <a:off x="4876560" y="380952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4" name="Text Box 17"/>
            <p:cNvSpPr/>
            <p:nvPr/>
          </p:nvSpPr>
          <p:spPr>
            <a:xfrm>
              <a:off x="6031080" y="4113000"/>
              <a:ext cx="2286000" cy="155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PROTON – positive, same mass as neutron (“1”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5" name="Group 18"/>
          <p:cNvGrpSpPr/>
          <p:nvPr/>
        </p:nvGrpSpPr>
        <p:grpSpPr>
          <a:xfrm>
            <a:off x="685800" y="3951720"/>
            <a:ext cx="3400920" cy="2481840"/>
            <a:chOff x="685800" y="3951720"/>
            <a:chExt cx="3400920" cy="2481840"/>
          </a:xfrm>
        </p:grpSpPr>
        <p:sp>
          <p:nvSpPr>
            <p:cNvPr id="1176" name="Text Box 19"/>
            <p:cNvSpPr/>
            <p:nvPr/>
          </p:nvSpPr>
          <p:spPr>
            <a:xfrm>
              <a:off x="685800" y="4876560"/>
              <a:ext cx="2286000" cy="1557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NEUTRON – neutral, same mass as proton (“1”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7" name="AutoShape 20"/>
            <p:cNvSpPr/>
            <p:nvPr/>
          </p:nvSpPr>
          <p:spPr>
            <a:xfrm rot="8274000">
              <a:off x="2514240" y="441936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Text Box 4"/>
          <p:cNvSpPr/>
          <p:nvPr/>
        </p:nvSpPr>
        <p:spPr>
          <a:xfrm>
            <a:off x="-396720" y="40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Body parts the 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8" name="Picture 5" descr="Simple Ear OHP (u)"/>
          <p:cNvPicPr/>
          <p:nvPr/>
        </p:nvPicPr>
        <p:blipFill>
          <a:blip r:embed="rId1"/>
          <a:stretch/>
        </p:blipFill>
        <p:spPr>
          <a:xfrm>
            <a:off x="0" y="1052640"/>
            <a:ext cx="7129440" cy="5092560"/>
          </a:xfrm>
          <a:prstGeom prst="rect">
            <a:avLst/>
          </a:prstGeom>
          <a:ln w="0">
            <a:noFill/>
          </a:ln>
        </p:spPr>
      </p:pic>
      <p:sp>
        <p:nvSpPr>
          <p:cNvPr id="1509" name="Text Box 6"/>
          <p:cNvSpPr/>
          <p:nvPr/>
        </p:nvSpPr>
        <p:spPr>
          <a:xfrm>
            <a:off x="755640" y="1052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720000"/>
                </a:solidFill>
                <a:latin typeface="Tahoma"/>
              </a:rPr>
              <a:t>Ear ca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0" name="Text Box 7"/>
          <p:cNvSpPr/>
          <p:nvPr/>
        </p:nvSpPr>
        <p:spPr>
          <a:xfrm>
            <a:off x="2556000" y="414972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720000"/>
                </a:solidFill>
                <a:latin typeface="Tahoma"/>
              </a:rPr>
              <a:t>Ear d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1" name="Text Box 8"/>
          <p:cNvSpPr/>
          <p:nvPr/>
        </p:nvSpPr>
        <p:spPr>
          <a:xfrm>
            <a:off x="3564000" y="4724280"/>
            <a:ext cx="136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720000"/>
                </a:solidFill>
                <a:latin typeface="Tahoma"/>
              </a:rPr>
              <a:t>cochl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2" name="Text Box 9"/>
          <p:cNvSpPr/>
          <p:nvPr/>
        </p:nvSpPr>
        <p:spPr>
          <a:xfrm>
            <a:off x="4716360" y="5157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720000"/>
                </a:solidFill>
                <a:latin typeface="Tahoma"/>
              </a:rPr>
              <a:t>Auditory ner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3" name="Line 10"/>
          <p:cNvSpPr/>
          <p:nvPr/>
        </p:nvSpPr>
        <p:spPr>
          <a:xfrm flipH="1">
            <a:off x="6659640" y="4005360"/>
            <a:ext cx="504720" cy="863640"/>
          </a:xfrm>
          <a:prstGeom prst="line">
            <a:avLst/>
          </a:prstGeom>
          <a:ln w="414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4" name="Text Box 11"/>
          <p:cNvSpPr/>
          <p:nvPr/>
        </p:nvSpPr>
        <p:spPr>
          <a:xfrm>
            <a:off x="7093080" y="3284640"/>
            <a:ext cx="2050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Eustach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Tu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5" name="Rectangle 12"/>
          <p:cNvSpPr/>
          <p:nvPr/>
        </p:nvSpPr>
        <p:spPr>
          <a:xfrm>
            <a:off x="2639880" y="690840"/>
            <a:ext cx="207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ahoma"/>
              </a:rPr>
              <a:t>Earbones 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ahoma"/>
              </a:rPr>
              <a:t>ossicles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6" name="Rectangle 13"/>
          <p:cNvSpPr/>
          <p:nvPr/>
        </p:nvSpPr>
        <p:spPr>
          <a:xfrm>
            <a:off x="4943880" y="258120"/>
            <a:ext cx="39722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ahoma"/>
              </a:rPr>
              <a:t>Semi -circular canal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helps control balanc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detecting movement 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ub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7" name="Text Box 14"/>
          <p:cNvSpPr/>
          <p:nvPr/>
        </p:nvSpPr>
        <p:spPr>
          <a:xfrm>
            <a:off x="755640" y="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Human 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Text Box 15"/>
          <p:cNvSpPr/>
          <p:nvPr/>
        </p:nvSpPr>
        <p:spPr>
          <a:xfrm>
            <a:off x="900000" y="61657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Make notes on your diagram and glue it into your bo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2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Text Box 4"/>
          <p:cNvSpPr/>
          <p:nvPr/>
        </p:nvSpPr>
        <p:spPr>
          <a:xfrm>
            <a:off x="395280" y="404640"/>
            <a:ext cx="83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How does the ear he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By detecting vibration from sound waves, these are then changed into electrical impulses which are carried to the br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0" name="Text Box 5"/>
          <p:cNvSpPr/>
          <p:nvPr/>
        </p:nvSpPr>
        <p:spPr>
          <a:xfrm>
            <a:off x="611280" y="3068640"/>
            <a:ext cx="777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Read the Sound and Ear section page 28 (Pathfind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Complete question 8 pg 3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1" name="Text Box 6"/>
          <p:cNvSpPr/>
          <p:nvPr/>
        </p:nvSpPr>
        <p:spPr>
          <a:xfrm>
            <a:off x="684360" y="472428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66ffff"/>
                </a:solidFill>
                <a:latin typeface="Tahoma"/>
              </a:rPr>
              <a:t>Know the parts of the e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4"/>
          <p:cNvSpPr/>
          <p:nvPr/>
        </p:nvSpPr>
        <p:spPr>
          <a:xfrm>
            <a:off x="0" y="0"/>
            <a:ext cx="93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Know about capillaries, veins and what’s the other one 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Tahoma"/>
              </a:rPr>
              <a:t>Arteries - these have the highest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Tahoma"/>
              </a:rPr>
              <a:t>Know which ones carry blood where 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Tahoma"/>
              </a:rPr>
              <a:t>What’s so special about capillari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ccff"/>
                </a:solidFill>
                <a:latin typeface="Tahoma"/>
              </a:rPr>
              <a:t>They are small – one cell thick they allow gases to diffuse into and out of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Text Box 5"/>
          <p:cNvSpPr/>
          <p:nvPr/>
        </p:nvSpPr>
        <p:spPr>
          <a:xfrm>
            <a:off x="0" y="4581360"/>
            <a:ext cx="88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Read Pathfinder text :   Read Circulating Materials pg 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                                    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complete Q’s 6, 9 and 10 pg 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Text Box 4"/>
          <p:cNvSpPr/>
          <p:nvPr/>
        </p:nvSpPr>
        <p:spPr>
          <a:xfrm>
            <a:off x="539640" y="404640"/>
            <a:ext cx="7920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Pulse ra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Know all about this and what vessels allow you to take the pulse and why. Refer old Humans test and mark sche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Tahoma"/>
              </a:rPr>
              <a:t>Know how blood returns to the heart from the body organs via the veins. Refer no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Kidneys –what do they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se filter the blood and remove wastes from the bl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7" name="Text Box 5"/>
          <p:cNvSpPr/>
          <p:nvPr/>
        </p:nvSpPr>
        <p:spPr>
          <a:xfrm>
            <a:off x="539640" y="3429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Know the muscles in the arm and how the arm works look at your no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The Hear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You must be able to label th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left at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Right at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Right ventri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Left ventr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y does the heart have valv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Name the blood vessels and explain why they are different from each 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0" name="Content Placeholder 3" descr="Simple heart (Labeled).jpg"/>
          <p:cNvPicPr/>
          <p:nvPr/>
        </p:nvPicPr>
        <p:blipFill>
          <a:blip r:embed="rId1"/>
          <a:srcRect l="0" t="0" r="0" b="51020"/>
          <a:stretch/>
        </p:blipFill>
        <p:spPr>
          <a:xfrm>
            <a:off x="1278000" y="500040"/>
            <a:ext cx="6508800" cy="5786640"/>
          </a:xfrm>
          <a:prstGeom prst="rect">
            <a:avLst/>
          </a:prstGeom>
          <a:ln w="0">
            <a:noFill/>
          </a:ln>
        </p:spPr>
      </p:pic>
      <p:sp>
        <p:nvSpPr>
          <p:cNvPr id="1531" name="Rectangle 4"/>
          <p:cNvSpPr/>
          <p:nvPr/>
        </p:nvSpPr>
        <p:spPr>
          <a:xfrm>
            <a:off x="1428840" y="642960"/>
            <a:ext cx="22143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2" name="Rectangle 5"/>
          <p:cNvSpPr/>
          <p:nvPr/>
        </p:nvSpPr>
        <p:spPr>
          <a:xfrm>
            <a:off x="1285920" y="1714680"/>
            <a:ext cx="22143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Rectangle 6"/>
          <p:cNvSpPr/>
          <p:nvPr/>
        </p:nvSpPr>
        <p:spPr>
          <a:xfrm>
            <a:off x="5357880" y="785880"/>
            <a:ext cx="22143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Rectangle 7"/>
          <p:cNvSpPr/>
          <p:nvPr/>
        </p:nvSpPr>
        <p:spPr>
          <a:xfrm>
            <a:off x="5500800" y="1643040"/>
            <a:ext cx="228600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5" name="Rectangle 8"/>
          <p:cNvSpPr/>
          <p:nvPr/>
        </p:nvSpPr>
        <p:spPr>
          <a:xfrm>
            <a:off x="6572160" y="3786120"/>
            <a:ext cx="121464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6" name="Rectangle 9"/>
          <p:cNvSpPr/>
          <p:nvPr/>
        </p:nvSpPr>
        <p:spPr>
          <a:xfrm>
            <a:off x="6286680" y="5214960"/>
            <a:ext cx="121428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7" name="Rectangle 10"/>
          <p:cNvSpPr/>
          <p:nvPr/>
        </p:nvSpPr>
        <p:spPr>
          <a:xfrm>
            <a:off x="1428840" y="5214960"/>
            <a:ext cx="121428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8" name="Rectangle 11"/>
          <p:cNvSpPr/>
          <p:nvPr/>
        </p:nvSpPr>
        <p:spPr>
          <a:xfrm>
            <a:off x="1428840" y="3786120"/>
            <a:ext cx="121428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2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2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2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he “Double Circulatory” Syste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540" name="Group 3"/>
          <p:cNvGrpSpPr/>
          <p:nvPr/>
        </p:nvGrpSpPr>
        <p:grpSpPr>
          <a:xfrm>
            <a:off x="0" y="836640"/>
            <a:ext cx="9144000" cy="6021360"/>
            <a:chOff x="0" y="836640"/>
            <a:chExt cx="9144000" cy="6021360"/>
          </a:xfrm>
        </p:grpSpPr>
        <p:sp>
          <p:nvSpPr>
            <p:cNvPr id="1541" name="Rectangle 4"/>
            <p:cNvSpPr/>
            <p:nvPr/>
          </p:nvSpPr>
          <p:spPr>
            <a:xfrm>
              <a:off x="0" y="836640"/>
              <a:ext cx="9144000" cy="602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542" name="Picture 5" descr="Circ system"/>
            <p:cNvPicPr/>
            <p:nvPr/>
          </p:nvPicPr>
          <p:blipFill>
            <a:blip r:embed="rId1"/>
            <a:stretch/>
          </p:blipFill>
          <p:spPr>
            <a:xfrm>
              <a:off x="2217600" y="907920"/>
              <a:ext cx="4146840" cy="59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3" name="Rectangle 6"/>
            <p:cNvSpPr/>
            <p:nvPr/>
          </p:nvSpPr>
          <p:spPr>
            <a:xfrm>
              <a:off x="1763640" y="981000"/>
              <a:ext cx="151308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4" name="Rectangle 7"/>
            <p:cNvSpPr/>
            <p:nvPr/>
          </p:nvSpPr>
          <p:spPr>
            <a:xfrm>
              <a:off x="1619280" y="2276640"/>
              <a:ext cx="151272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5" name="Rectangle 8"/>
            <p:cNvSpPr/>
            <p:nvPr/>
          </p:nvSpPr>
          <p:spPr>
            <a:xfrm>
              <a:off x="5364000" y="907920"/>
              <a:ext cx="151308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5796000" y="1484280"/>
              <a:ext cx="151272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050920" y="4135320"/>
              <a:ext cx="692280" cy="25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916360" y="6597720"/>
              <a:ext cx="1512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2428920" y="5464080"/>
              <a:ext cx="584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0" name="Rectangle 13"/>
            <p:cNvSpPr/>
            <p:nvPr/>
          </p:nvSpPr>
          <p:spPr>
            <a:xfrm>
              <a:off x="6043680" y="3490920"/>
              <a:ext cx="43812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1" name="Rectangle 14"/>
            <p:cNvSpPr/>
            <p:nvPr/>
          </p:nvSpPr>
          <p:spPr>
            <a:xfrm>
              <a:off x="5870520" y="5086440"/>
              <a:ext cx="64152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2" name="Text Box 15"/>
          <p:cNvSpPr/>
          <p:nvPr/>
        </p:nvSpPr>
        <p:spPr>
          <a:xfrm>
            <a:off x="203040" y="987480"/>
            <a:ext cx="297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.  Deoxygenated blood is pumped from the heart to the lu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3" name="Text Box 16"/>
          <p:cNvSpPr/>
          <p:nvPr/>
        </p:nvSpPr>
        <p:spPr>
          <a:xfrm>
            <a:off x="6167520" y="4876920"/>
            <a:ext cx="297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.  The oxygenated blood is then pumped to the rest of the bo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4" name="Text Box 17"/>
          <p:cNvSpPr/>
          <p:nvPr/>
        </p:nvSpPr>
        <p:spPr>
          <a:xfrm>
            <a:off x="5991120" y="1143000"/>
            <a:ext cx="297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  The blood receives oxygen and is pumped back to the hea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5" name="Text Box 18"/>
          <p:cNvSpPr/>
          <p:nvPr/>
        </p:nvSpPr>
        <p:spPr>
          <a:xfrm>
            <a:off x="0" y="4210200"/>
            <a:ext cx="270036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4.  The oxygen leaves the blood to be used for respiration in the body and the blood goes back to the hear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6" name="Oval 19"/>
          <p:cNvSpPr/>
          <p:nvPr/>
        </p:nvSpPr>
        <p:spPr>
          <a:xfrm>
            <a:off x="3905280" y="4165560"/>
            <a:ext cx="377640" cy="37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7" name="Oval 20"/>
          <p:cNvSpPr/>
          <p:nvPr/>
        </p:nvSpPr>
        <p:spPr>
          <a:xfrm>
            <a:off x="4151160" y="1550880"/>
            <a:ext cx="378000" cy="37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8" name="Oval 21"/>
          <p:cNvSpPr/>
          <p:nvPr/>
        </p:nvSpPr>
        <p:spPr>
          <a:xfrm>
            <a:off x="4511520" y="4275000"/>
            <a:ext cx="378000" cy="37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9" name="Oval 22"/>
          <p:cNvSpPr/>
          <p:nvPr/>
        </p:nvSpPr>
        <p:spPr>
          <a:xfrm>
            <a:off x="4203720" y="5886360"/>
            <a:ext cx="377640" cy="37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0" name="Picture 23" descr="j0251063"/>
          <p:cNvPicPr/>
          <p:nvPr/>
        </p:nvPicPr>
        <p:blipFill>
          <a:blip r:embed="rId2"/>
          <a:stretch/>
        </p:blipFill>
        <p:spPr>
          <a:xfrm>
            <a:off x="7988400" y="0"/>
            <a:ext cx="11556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9.24855E-007 C 0.00226 -0.00832 0.00521 -0.01688 0.00643 -0.02543 C 0.00747 -0.03237 0.00781 -0.03977 0.00955 -0.04647 C 0.01059 -0.05063 0.01181 -0.05503 0.01285 -0.05919 C 0.01337 -0.06127 0.01441 -0.06543 0.01441 -0.06543 C 0.01354 -0.08462 0.01302 -0.13572 -3.88889E-006 -0.15214 C -0.00052 -0.15422 -0.00069 -0.15653 -0.00156 -0.15861 C -0.0033 -0.163 -0.00781 -0.1711 -0.00781 -0.1711 C -0.01232 -0.18959 -0.00607 -0.16717 -0.01267 -0.18173 C -0.01354 -0.18358 -0.01337 -0.18613 -0.01423 -0.18821 C -0.01597 -0.1926 -0.0184 -0.19653 -0.02048 -0.20069 C -0.02153 -0.20277 -0.02378 -0.20717 -0.02378 -0.20717 C -0.02691 -0.21988 -0.03507 -0.22867 -0.04271 -0.23676 C -0.04809 -0.24231 -0.05225 -0.24878 -0.05868 -0.25156 C -0.06302 -0.25549 -0.0658 -0.25988 -0.06979 -0.26428 C -0.07378 -0.26867 -0.0776 -0.27144 -0.0809 -0.27699 C -0.08212 -0.27907 -0.08281 -0.28139 -0.08403 -0.28324 C -0.08646 -0.28693 -0.09201 -0.29387 -0.09201 -0.29387 C -0.09566 -0.30867 -0.0941 -0.30243 -0.0967 -0.31283 C -0.09722 -0.31491 -0.09774 -0.31699 -0.09826 -0.31907 C -0.09878 -0.32115 -0.1 -0.32555 -0.1 -0.32555 C -0.09739 -0.33803 -0.09548 -0.3489 -0.08559 -0.35306 C -0.07812 -0.35977 -0.08281 -0.3563 -0.07135 -0.36139 C -0.06979 -0.36208 -0.06666 -0.36347 -0.06666 -0.36347 C -0.05798 -0.37503 -0.03073 -0.38081 -0.01892 -0.38266 C -0.00399 -0.37595 0.01597 -0.39537 0.02709 -0.38058 E">
                                      <p:cBhvr>
                                        <p:cTn id="733" dur="2000" fill="hold"/>
                                        <p:tgtEl>
                                          <p:spTgt spid="1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89017E-007 C 0.01319 0.01156 0.03194 0.00578 0.04756 0.00832 C 0.06736 0.01549 0.08836 0.0148 0.10798 0.02312 C 0.11059 0.02682 0.11197 0.0296 0.11579 0.03168 C 0.11892 0.03353 0.12534 0.03584 0.12534 0.03584 C 0.12829 0.04208 0.13177 0.0467 0.13489 0.05272 C 0.14184 0.08069 0.15017 0.10867 0.15555 0.13734 C 0.15503 0.15468 0.15677 0.18428 0.14913 0.20301 C 0.14201 0.22035 0.13125 0.23422 0.11909 0.24509 C 0.11267 0.25087 0.10572 0.2622 0.09843 0.26636 C 0.09062 0.27098 0.08125 0.27329 0.07465 0.28116 C 0.06875 0.28809 0.06562 0.29526 0.06024 0.3022 C 0.05607 0.31954 0.05017 0.33549 0.046 0.35306 C 0.04427 0.36046 0.04427 0.36855 0.04288 0.37618 C 0.04149 0.38335 0.03958 0.38983 0.03958 0.39746 E">
                                      <p:cBhvr>
                                        <p:cTn id="749" dur="2000" fill="hold"/>
                                        <p:tgtEl>
                                          <p:spTgt spid="1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5.43353E-006 C -0.00157 -0.01271 -0.00487 -0.02173 -0.00798 -0.03375 C -0.00921 -0.03861 -0.00955 -0.04392 -0.01112 -0.04855 C -0.01181 -0.05086 -0.01336 -0.05271 -0.01423 -0.05502 C -0.01494 -0.0571 -0.01527 -0.05918 -0.01579 -0.06126 C -0.01858 -0.08832 -0.02049 -0.11167 -0.01579 -0.13965 C -0.0151 -0.14427 -0.01371 -0.16115 -0.01112 -0.16485 C -0.00643 -0.17155 -0.00122 -0.18427 0.00485 -0.1882 C 0.00782 -0.19005 0.01424 -0.19236 0.01424 -0.19236 C 0.01858 -0.19791 0.02309 -0.19861 0.02865 -0.20092 C 0.03664 -0.20022 0.04445 -0.19999 0.05243 -0.19884 C 0.05573 -0.19837 0.05886 -0.19768 0.06198 -0.19652 C 0.06528 -0.19537 0.07153 -0.19236 0.07153 -0.19236 C 0.08542 -0.17988 0.09775 -0.16785 0.10955 -0.15213 C 0.11337 -0.14704 0.11546 -0.14034 0.1191 -0.13525 C 0.12118 -0.12716 0.12414 -0.11791 0.12865 -0.11213 C 0.13091 -0.09941 0.12952 -0.10612 0.13334 -0.09086 C 0.13386 -0.08878 0.1349 -0.08462 0.1349 -0.08462 C 0.13334 -0.05225 0.13455 -0.0215 0.13177 0.01064 C 0.12865 0.04625 0.11962 0.08139 0.11424 0.11631 C 0.11233 0.12833 0.1125 0.14059 0.10955 0.15215 C 0.1066 0.17619 0.09896 0.21642 0.08091 0.22822 C 0.07014 0.23515 0.05764 0.237 0.04601 0.23885 C 0.01702 0.22914 0.04827 0.23885 -0.02848 0.23885 C -0.0302 0.23885 -0.03333 0.23677 -0.03333 0.23677 E">
                                      <p:cBhvr>
                                        <p:cTn id="763" dur="2000" fill="hold"/>
                                        <p:tgtEl>
                                          <p:spTgt spid="1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5.78035E-006 C -0.01284 -0.00579 0.00191 -5.78035E-006 -0.02691 -5.78035E-006 C -0.0375 -5.78035E-006 -0.04809 -0.00325 -0.05868 -0.00417 C -0.06927 -0.00625 -0.07968 -0.00879 -0.09045 -0.01064 C -0.0967 -0.01342 -0.1033 -0.01434 -0.10955 -0.01689 C -0.11267 -0.01804 -0.11892 -0.02105 -0.11892 -0.02105 C -0.1276 -0.03261 -0.12847 -0.03793 -0.13489 -0.05064 C -0.13958 -0.07677 -0.14739 -0.10267 -0.15069 -0.12903 C -0.1526 -0.14521 -0.15156 -0.14544 -0.15399 -0.1607 C -0.15607 -0.17481 -0.15972 -0.18891 -0.1618 -0.20301 C -0.16753 -0.24348 -0.17152 -0.28463 -0.17448 -0.32556 C -0.17413 -0.32903 -0.17309 -0.34544 -0.17135 -0.35099 C -0.16788 -0.36186 -0.15555 -0.36995 -0.14757 -0.37203 C -0.12569 -0.36879 -0.10486 -0.36417 -0.08402 -0.35515 C -0.08246 -0.35377 -0.08107 -0.35215 -0.07934 -0.35099 C -0.07777 -0.35007 -0.07587 -0.35007 -0.07448 -0.34891 C -0.06337 -0.33989 -0.08038 -0.34845 -0.06666 -0.34244 C -0.06423 -0.33943 -0.06076 -0.33758 -0.05868 -0.33411 C -0.05034 -0.31978 -0.06562 -0.33481 -0.05225 -0.32348 C -0.04843 -0.30799 -0.05156 -0.314 -0.04444 -0.30452 C -0.04271 -0.29758 -0.04184 -0.29273 -0.03802 -0.28741 C -0.03646 -0.27723 -0.03177 -0.26614 -0.03177 -0.25573 E">
                                      <p:cBhvr>
                                        <p:cTn id="779" dur="2000" fill="hold"/>
                                        <p:tgtEl>
                                          <p:spTgt spid="1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Text Box 4"/>
          <p:cNvSpPr/>
          <p:nvPr/>
        </p:nvSpPr>
        <p:spPr>
          <a:xfrm>
            <a:off x="539640" y="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ff"/>
                </a:solidFill>
                <a:latin typeface="Tahoma"/>
              </a:rPr>
              <a:t>Geolog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2" name="Text Box 5"/>
          <p:cNvSpPr/>
          <p:nvPr/>
        </p:nvSpPr>
        <p:spPr>
          <a:xfrm>
            <a:off x="0" y="782640"/>
            <a:ext cx="860436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Learn Parts of the earth and their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Convection currents and what makes th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(read Earths structure pg 104) esp the erosion cy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Collision zones at plate bound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Tahoma"/>
              </a:rPr>
              <a:t>Volcanoes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(structure - know parts) – lava cools on the outside of a volcano </a:t>
            </a:r>
            <a:r>
              <a:rPr b="1" lang="en-NZ" sz="2800" spc="-1" strike="noStrike">
                <a:solidFill>
                  <a:srgbClr val="66ccff"/>
                </a:solidFill>
                <a:latin typeface="Tahoma"/>
              </a:rPr>
              <a:t>very quickly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and forms rock with </a:t>
            </a:r>
            <a:r>
              <a:rPr b="1" lang="en-NZ" sz="2800" spc="-1" strike="noStrike">
                <a:solidFill>
                  <a:srgbClr val="66ccff"/>
                </a:solidFill>
                <a:latin typeface="Tahoma"/>
              </a:rPr>
              <a:t>very small crystals .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The magma trapped inside the volcano </a:t>
            </a:r>
            <a:r>
              <a:rPr b="1" lang="en-NZ" sz="2800" spc="-1" strike="noStrike">
                <a:solidFill>
                  <a:srgbClr val="00ff00"/>
                </a:solidFill>
                <a:latin typeface="Tahoma"/>
              </a:rPr>
              <a:t>cools very slowly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and forms </a:t>
            </a:r>
            <a:r>
              <a:rPr b="1" lang="en-NZ" sz="2800" spc="-1" strike="noStrike">
                <a:solidFill>
                  <a:srgbClr val="00ff00"/>
                </a:solidFill>
                <a:latin typeface="Tahoma"/>
              </a:rPr>
              <a:t>large crystals Q6 page 1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Earthquakes what causes them read stress </a:t>
            </a:r>
            <a:r>
              <a:rPr b="0" lang="en-NZ" sz="2800" spc="-1" strike="noStrike">
                <a:solidFill>
                  <a:srgbClr val="00ff00"/>
                </a:solidFill>
                <a:latin typeface="Tahoma"/>
              </a:rPr>
              <a:t>fractures pg 1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Text Box 4"/>
          <p:cNvSpPr/>
          <p:nvPr/>
        </p:nvSpPr>
        <p:spPr>
          <a:xfrm>
            <a:off x="539640" y="765000"/>
            <a:ext cx="8136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Tahoma"/>
              </a:rPr>
              <a:t>Be able to name the 2 plates that meet on the fault line that runs through New Zealan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Tahoma"/>
              </a:rPr>
              <a:t>Complete Q 9 page 10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 Box 6"/>
          <p:cNvSpPr/>
          <p:nvPr/>
        </p:nvSpPr>
        <p:spPr>
          <a:xfrm>
            <a:off x="357120" y="714240"/>
            <a:ext cx="7848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ff"/>
                </a:solidFill>
                <a:latin typeface="Comic Sans MS"/>
              </a:rPr>
              <a:t>Know the structure of the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Comic Sans MS"/>
              </a:rPr>
              <a:t>What is an 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ff"/>
                </a:solidFill>
                <a:latin typeface="Comic Sans MS"/>
              </a:rPr>
              <a:t>An ion is an atom that has lost electrons to form a +ve 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ff"/>
                </a:solidFill>
                <a:latin typeface="Comic Sans MS"/>
              </a:rPr>
              <a:t>or an atom that has gained electrons to form a –ve 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9" name=""/>
          <p:cNvGraphicFramePr/>
          <p:nvPr/>
        </p:nvGraphicFramePr>
        <p:xfrm>
          <a:off x="611280" y="620640"/>
          <a:ext cx="7775640" cy="4027680"/>
        </p:xfrm>
        <a:graphic>
          <a:graphicData uri="http://schemas.openxmlformats.org/drawingml/2006/table">
            <a:tbl>
              <a:tblPr/>
              <a:tblGrid>
                <a:gridCol w="1942920"/>
                <a:gridCol w="583272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ou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bers of each at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NZ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nO</a:t>
                      </a:r>
                      <a:r>
                        <a:rPr b="0" lang="en-NZ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HSO</a:t>
                      </a:r>
                      <a:r>
                        <a:rPr b="0" lang="en-NZ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(NO</a:t>
                      </a:r>
                      <a:r>
                        <a:rPr b="0" lang="en-NZ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NZ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0" name="Text Box 77"/>
          <p:cNvSpPr/>
          <p:nvPr/>
        </p:nvSpPr>
        <p:spPr>
          <a:xfrm>
            <a:off x="2700360" y="1628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1 x K , 1 x O , 1x 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Text Box 78"/>
          <p:cNvSpPr/>
          <p:nvPr/>
        </p:nvSpPr>
        <p:spPr>
          <a:xfrm>
            <a:off x="2771640" y="2133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1 x C , 1 x O , 4x 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Text Box 79"/>
          <p:cNvSpPr/>
          <p:nvPr/>
        </p:nvSpPr>
        <p:spPr>
          <a:xfrm>
            <a:off x="2627280" y="2924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1 x K , 1 x Mn , 4x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Text Box 80"/>
          <p:cNvSpPr/>
          <p:nvPr/>
        </p:nvSpPr>
        <p:spPr>
          <a:xfrm>
            <a:off x="2627280" y="3645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1 x Na , 1 x H , 1x S , 4 x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Text Box 81"/>
          <p:cNvSpPr/>
          <p:nvPr/>
        </p:nvSpPr>
        <p:spPr>
          <a:xfrm>
            <a:off x="2627280" y="4149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1 x Al , 3 x N  , 9 x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4"/>
          <p:cNvSpPr/>
          <p:nvPr/>
        </p:nvSpPr>
        <p:spPr>
          <a:xfrm>
            <a:off x="324000" y="47628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You must be able to write balanced formula for compounds using an ion 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2268360" y="2060640"/>
          <a:ext cx="5222880" cy="3200400"/>
        </p:xfrm>
        <a:graphic>
          <a:graphicData uri="http://schemas.openxmlformats.org/drawingml/2006/table">
            <a:tbl>
              <a:tblPr/>
              <a:tblGrid>
                <a:gridCol w="1044720"/>
                <a:gridCol w="1044720"/>
                <a:gridCol w="1044360"/>
                <a:gridCol w="1044720"/>
                <a:gridCol w="104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C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7" name=""/>
          <p:cNvGraphicFramePr/>
          <p:nvPr/>
        </p:nvGraphicFramePr>
        <p:xfrm>
          <a:off x="1692360" y="260280"/>
          <a:ext cx="6696000" cy="4664160"/>
        </p:xfrm>
        <a:graphic>
          <a:graphicData uri="http://schemas.openxmlformats.org/drawingml/2006/table">
            <a:tbl>
              <a:tblPr/>
              <a:tblGrid>
                <a:gridCol w="934920"/>
                <a:gridCol w="1224000"/>
                <a:gridCol w="865080"/>
                <a:gridCol w="1943280"/>
                <a:gridCol w="172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lor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x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rr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ydrox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rbon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rro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it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lf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C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carbonat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4"/>
          <p:cNvSpPr/>
          <p:nvPr/>
        </p:nvSpPr>
        <p:spPr>
          <a:xfrm>
            <a:off x="611280" y="393372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Text Box 5"/>
          <p:cNvSpPr/>
          <p:nvPr/>
        </p:nvSpPr>
        <p:spPr>
          <a:xfrm>
            <a:off x="324000" y="42102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formula for: hydrogen chlor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dium ox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alcium hydrox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zinc sulf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luminium carbo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1692360" y="260280"/>
          <a:ext cx="6737400" cy="3954600"/>
        </p:xfrm>
        <a:graphic>
          <a:graphicData uri="http://schemas.openxmlformats.org/drawingml/2006/table">
            <a:tbl>
              <a:tblPr/>
              <a:tblGrid>
                <a:gridCol w="941400"/>
                <a:gridCol w="1230120"/>
                <a:gridCol w="871560"/>
                <a:gridCol w="1954440"/>
                <a:gridCol w="173988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lor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x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rr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ydrox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rbon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rr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it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lf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CO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carbonate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1" name="Text Box 59"/>
          <p:cNvSpPr/>
          <p:nvPr/>
        </p:nvSpPr>
        <p:spPr>
          <a:xfrm>
            <a:off x="6156360" y="4221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Text Box 60"/>
          <p:cNvSpPr/>
          <p:nvPr/>
        </p:nvSpPr>
        <p:spPr>
          <a:xfrm>
            <a:off x="6264360" y="4653000"/>
            <a:ext cx="28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Na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Tahoma"/>
              </a:rPr>
              <a:t>2</a:t>
            </a: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Text Box 61"/>
          <p:cNvSpPr/>
          <p:nvPr/>
        </p:nvSpPr>
        <p:spPr>
          <a:xfrm>
            <a:off x="6300720" y="5229360"/>
            <a:ext cx="194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Ca(OH)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Text Box 62"/>
          <p:cNvSpPr/>
          <p:nvPr/>
        </p:nvSpPr>
        <p:spPr>
          <a:xfrm>
            <a:off x="6300720" y="5805360"/>
            <a:ext cx="251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ZnSO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Text Box 63"/>
          <p:cNvSpPr/>
          <p:nvPr/>
        </p:nvSpPr>
        <p:spPr>
          <a:xfrm>
            <a:off x="6227640" y="6381720"/>
            <a:ext cx="208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Al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Tahoma"/>
              </a:rPr>
              <a:t>2</a:t>
            </a: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(CO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Tahoma"/>
              </a:rPr>
              <a:t>3</a:t>
            </a: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)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2"/>
          <p:cNvSpPr/>
          <p:nvPr/>
        </p:nvSpPr>
        <p:spPr>
          <a:xfrm>
            <a:off x="1979640" y="1268280"/>
            <a:ext cx="5219640" cy="43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7" name="Group 3"/>
          <p:cNvGrpSpPr/>
          <p:nvPr/>
        </p:nvGrpSpPr>
        <p:grpSpPr>
          <a:xfrm>
            <a:off x="3132000" y="2349360"/>
            <a:ext cx="587520" cy="3156120"/>
            <a:chOff x="3132000" y="2349360"/>
            <a:chExt cx="587520" cy="3156120"/>
          </a:xfrm>
        </p:grpSpPr>
        <p:sp>
          <p:nvSpPr>
            <p:cNvPr id="1198" name="AutoShape 4"/>
            <p:cNvSpPr/>
            <p:nvPr/>
          </p:nvSpPr>
          <p:spPr>
            <a:xfrm>
              <a:off x="3132000" y="234936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9" name="Freeform 5"/>
            <p:cNvSpPr/>
            <p:nvPr/>
          </p:nvSpPr>
          <p:spPr>
            <a:xfrm>
              <a:off x="3166920" y="2428920"/>
              <a:ext cx="243000" cy="93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0" name="Freeform 6"/>
            <p:cNvSpPr/>
            <p:nvPr/>
          </p:nvSpPr>
          <p:spPr>
            <a:xfrm>
              <a:off x="3456000" y="2917800"/>
              <a:ext cx="136440" cy="9619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1" name="Freeform 7"/>
            <p:cNvSpPr/>
            <p:nvPr/>
          </p:nvSpPr>
          <p:spPr>
            <a:xfrm>
              <a:off x="3254400" y="5246640"/>
              <a:ext cx="10800" cy="763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Freeform 8"/>
            <p:cNvSpPr/>
            <p:nvPr/>
          </p:nvSpPr>
          <p:spPr>
            <a:xfrm>
              <a:off x="3254400" y="5075280"/>
              <a:ext cx="45720" cy="3207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Freeform 9"/>
            <p:cNvSpPr/>
            <p:nvPr/>
          </p:nvSpPr>
          <p:spPr>
            <a:xfrm>
              <a:off x="3254400" y="4903920"/>
              <a:ext cx="74520" cy="52848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Freeform 10"/>
            <p:cNvSpPr/>
            <p:nvPr/>
          </p:nvSpPr>
          <p:spPr>
            <a:xfrm>
              <a:off x="3254400" y="4732200"/>
              <a:ext cx="101520" cy="7239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5" name="Freeform 11"/>
            <p:cNvSpPr/>
            <p:nvPr/>
          </p:nvSpPr>
          <p:spPr>
            <a:xfrm>
              <a:off x="3254400" y="4560840"/>
              <a:ext cx="128520" cy="9097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6" name="Freeform 12"/>
            <p:cNvSpPr/>
            <p:nvPr/>
          </p:nvSpPr>
          <p:spPr>
            <a:xfrm>
              <a:off x="3254400" y="4387680"/>
              <a:ext cx="153720" cy="10908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7" name="Freeform 13"/>
            <p:cNvSpPr/>
            <p:nvPr/>
          </p:nvSpPr>
          <p:spPr>
            <a:xfrm>
              <a:off x="3252600" y="4216320"/>
              <a:ext cx="179280" cy="12636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Freeform 14"/>
            <p:cNvSpPr/>
            <p:nvPr/>
          </p:nvSpPr>
          <p:spPr>
            <a:xfrm>
              <a:off x="3252600" y="4046400"/>
              <a:ext cx="203400" cy="143208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Freeform 15"/>
            <p:cNvSpPr/>
            <p:nvPr/>
          </p:nvSpPr>
          <p:spPr>
            <a:xfrm>
              <a:off x="3252600" y="3875040"/>
              <a:ext cx="225360" cy="15987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Freeform 16"/>
            <p:cNvSpPr/>
            <p:nvPr/>
          </p:nvSpPr>
          <p:spPr>
            <a:xfrm>
              <a:off x="3252600" y="3701880"/>
              <a:ext cx="247680" cy="17622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1" name="Freeform 17"/>
            <p:cNvSpPr/>
            <p:nvPr/>
          </p:nvSpPr>
          <p:spPr>
            <a:xfrm>
              <a:off x="3252600" y="3530520"/>
              <a:ext cx="270000" cy="19195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2" name="Freeform 18"/>
            <p:cNvSpPr/>
            <p:nvPr/>
          </p:nvSpPr>
          <p:spPr>
            <a:xfrm>
              <a:off x="3252600" y="3359160"/>
              <a:ext cx="290520" cy="20700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Freeform 19"/>
            <p:cNvSpPr/>
            <p:nvPr/>
          </p:nvSpPr>
          <p:spPr>
            <a:xfrm>
              <a:off x="3252600" y="3187800"/>
              <a:ext cx="309600" cy="22161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Freeform 20"/>
            <p:cNvSpPr/>
            <p:nvPr/>
          </p:nvSpPr>
          <p:spPr>
            <a:xfrm>
              <a:off x="3252600" y="3016080"/>
              <a:ext cx="328680" cy="23562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Freeform 21"/>
            <p:cNvSpPr/>
            <p:nvPr/>
          </p:nvSpPr>
          <p:spPr>
            <a:xfrm>
              <a:off x="3252600" y="2917800"/>
              <a:ext cx="341280" cy="241128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Freeform 22"/>
            <p:cNvSpPr/>
            <p:nvPr/>
          </p:nvSpPr>
          <p:spPr>
            <a:xfrm>
              <a:off x="3262320" y="2917800"/>
              <a:ext cx="331560" cy="233208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7" name="Freeform 23"/>
            <p:cNvSpPr/>
            <p:nvPr/>
          </p:nvSpPr>
          <p:spPr>
            <a:xfrm>
              <a:off x="3286080" y="2917800"/>
              <a:ext cx="307800" cy="21607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8" name="Freeform 24"/>
            <p:cNvSpPr/>
            <p:nvPr/>
          </p:nvSpPr>
          <p:spPr>
            <a:xfrm>
              <a:off x="3311280" y="2917800"/>
              <a:ext cx="282600" cy="19890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Freeform 25"/>
            <p:cNvSpPr/>
            <p:nvPr/>
          </p:nvSpPr>
          <p:spPr>
            <a:xfrm>
              <a:off x="3335040" y="2917800"/>
              <a:ext cx="258840" cy="181944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Freeform 26"/>
            <p:cNvSpPr/>
            <p:nvPr/>
          </p:nvSpPr>
          <p:spPr>
            <a:xfrm>
              <a:off x="3359160" y="2917800"/>
              <a:ext cx="233280" cy="16477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Freeform 27"/>
            <p:cNvSpPr/>
            <p:nvPr/>
          </p:nvSpPr>
          <p:spPr>
            <a:xfrm>
              <a:off x="3384360" y="2917800"/>
              <a:ext cx="208080" cy="14763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Freeform 28"/>
            <p:cNvSpPr/>
            <p:nvPr/>
          </p:nvSpPr>
          <p:spPr>
            <a:xfrm>
              <a:off x="3408120" y="2917800"/>
              <a:ext cx="184320" cy="13050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Freeform 29"/>
            <p:cNvSpPr/>
            <p:nvPr/>
          </p:nvSpPr>
          <p:spPr>
            <a:xfrm>
              <a:off x="3431880" y="2917800"/>
              <a:ext cx="160560" cy="113364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4" name="Freeform 30"/>
            <p:cNvSpPr/>
            <p:nvPr/>
          </p:nvSpPr>
          <p:spPr>
            <a:xfrm>
              <a:off x="3456000" y="2917800"/>
              <a:ext cx="136440" cy="9619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5" name="Freeform 31"/>
            <p:cNvSpPr/>
            <p:nvPr/>
          </p:nvSpPr>
          <p:spPr>
            <a:xfrm>
              <a:off x="3252600" y="2917800"/>
              <a:ext cx="341280" cy="25621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6" name="Freeform 32"/>
            <p:cNvSpPr/>
            <p:nvPr/>
          </p:nvSpPr>
          <p:spPr>
            <a:xfrm>
              <a:off x="3133440" y="2351160"/>
              <a:ext cx="581040" cy="102960"/>
            </a:xfrm>
            <a:prstGeom prst="pie">
              <a:avLst/>
            </a:pr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7" name="Freeform 33"/>
            <p:cNvSpPr/>
            <p:nvPr/>
          </p:nvSpPr>
          <p:spPr>
            <a:xfrm>
              <a:off x="3252600" y="2886120"/>
              <a:ext cx="339840" cy="651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8" name="Freeform 34"/>
            <p:cNvSpPr/>
            <p:nvPr/>
          </p:nvSpPr>
          <p:spPr>
            <a:xfrm>
              <a:off x="3252600" y="2886120"/>
              <a:ext cx="339840" cy="651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9" name="Freeform 35"/>
            <p:cNvSpPr/>
            <p:nvPr/>
          </p:nvSpPr>
          <p:spPr>
            <a:xfrm>
              <a:off x="3133440" y="2401920"/>
              <a:ext cx="581040" cy="3097080"/>
            </a:xfrm>
            <a:prstGeom prst="pie">
              <a:avLst/>
            </a:pr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0" name="Freeform 36"/>
            <p:cNvSpPr/>
            <p:nvPr/>
          </p:nvSpPr>
          <p:spPr>
            <a:xfrm>
              <a:off x="3402000" y="2360520"/>
              <a:ext cx="306360" cy="49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esting for carbon diox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32" name="Group 38"/>
          <p:cNvGrpSpPr/>
          <p:nvPr/>
        </p:nvGrpSpPr>
        <p:grpSpPr>
          <a:xfrm>
            <a:off x="3348000" y="2017800"/>
            <a:ext cx="71280" cy="2706480"/>
            <a:chOff x="3348000" y="2017800"/>
            <a:chExt cx="71280" cy="2706480"/>
          </a:xfrm>
        </p:grpSpPr>
        <p:sp>
          <p:nvSpPr>
            <p:cNvPr id="1233" name="Line 39"/>
            <p:cNvSpPr/>
            <p:nvPr/>
          </p:nvSpPr>
          <p:spPr>
            <a:xfrm flipV="1">
              <a:off x="334800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4" name="Line 40"/>
            <p:cNvSpPr/>
            <p:nvPr/>
          </p:nvSpPr>
          <p:spPr>
            <a:xfrm flipV="1">
              <a:off x="341928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5" name="Group 41"/>
          <p:cNvGrpSpPr/>
          <p:nvPr/>
        </p:nvGrpSpPr>
        <p:grpSpPr>
          <a:xfrm>
            <a:off x="3348000" y="3030480"/>
            <a:ext cx="235080" cy="1838520"/>
            <a:chOff x="3348000" y="3030480"/>
            <a:chExt cx="235080" cy="1838520"/>
          </a:xfrm>
        </p:grpSpPr>
        <p:sp>
          <p:nvSpPr>
            <p:cNvPr id="1236" name="Oval 42"/>
            <p:cNvSpPr/>
            <p:nvPr/>
          </p:nvSpPr>
          <p:spPr>
            <a:xfrm>
              <a:off x="3348000" y="479736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7" name="Oval 43"/>
            <p:cNvSpPr/>
            <p:nvPr/>
          </p:nvSpPr>
          <p:spPr>
            <a:xfrm>
              <a:off x="3454560" y="373536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Oval 44"/>
            <p:cNvSpPr/>
            <p:nvPr/>
          </p:nvSpPr>
          <p:spPr>
            <a:xfrm>
              <a:off x="3481560" y="34290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9" name="Oval 45"/>
            <p:cNvSpPr/>
            <p:nvPr/>
          </p:nvSpPr>
          <p:spPr>
            <a:xfrm>
              <a:off x="3511440" y="41590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0" name="Oval 46"/>
            <p:cNvSpPr/>
            <p:nvPr/>
          </p:nvSpPr>
          <p:spPr>
            <a:xfrm>
              <a:off x="3473280" y="45370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1" name="Oval 47"/>
            <p:cNvSpPr/>
            <p:nvPr/>
          </p:nvSpPr>
          <p:spPr>
            <a:xfrm>
              <a:off x="3467160" y="303048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2" name="Group 48"/>
          <p:cNvGrpSpPr/>
          <p:nvPr/>
        </p:nvGrpSpPr>
        <p:grpSpPr>
          <a:xfrm>
            <a:off x="3252240" y="1577880"/>
            <a:ext cx="1473840" cy="722520"/>
            <a:chOff x="3252240" y="1577880"/>
            <a:chExt cx="1473840" cy="722520"/>
          </a:xfrm>
        </p:grpSpPr>
        <p:sp>
          <p:nvSpPr>
            <p:cNvPr id="1243" name="Text Box 49"/>
            <p:cNvSpPr/>
            <p:nvPr/>
          </p:nvSpPr>
          <p:spPr>
            <a:xfrm>
              <a:off x="3676680" y="15778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4" name="AutoShape 50"/>
            <p:cNvSpPr/>
            <p:nvPr/>
          </p:nvSpPr>
          <p:spPr>
            <a:xfrm flipH="1" rot="16200000">
              <a:off x="3203280" y="1789920"/>
              <a:ext cx="559080" cy="46188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5" name="Group 51"/>
          <p:cNvGrpSpPr/>
          <p:nvPr/>
        </p:nvGrpSpPr>
        <p:grpSpPr>
          <a:xfrm>
            <a:off x="3132000" y="2352600"/>
            <a:ext cx="587520" cy="3156120"/>
            <a:chOff x="3132000" y="2352600"/>
            <a:chExt cx="587520" cy="3156120"/>
          </a:xfrm>
        </p:grpSpPr>
        <p:sp>
          <p:nvSpPr>
            <p:cNvPr id="1246" name="AutoShape 52"/>
            <p:cNvSpPr/>
            <p:nvPr/>
          </p:nvSpPr>
          <p:spPr>
            <a:xfrm>
              <a:off x="3132000" y="235260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7" name="Freeform 53"/>
            <p:cNvSpPr/>
            <p:nvPr/>
          </p:nvSpPr>
          <p:spPr>
            <a:xfrm>
              <a:off x="3166920" y="2432160"/>
              <a:ext cx="243000" cy="93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8" name="Freeform 54"/>
            <p:cNvSpPr/>
            <p:nvPr/>
          </p:nvSpPr>
          <p:spPr>
            <a:xfrm>
              <a:off x="3456000" y="2921040"/>
              <a:ext cx="136440" cy="9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9" name="Freeform 55"/>
            <p:cNvSpPr/>
            <p:nvPr/>
          </p:nvSpPr>
          <p:spPr>
            <a:xfrm>
              <a:off x="3254400" y="5249880"/>
              <a:ext cx="111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0" name="Freeform 56"/>
            <p:cNvSpPr/>
            <p:nvPr/>
          </p:nvSpPr>
          <p:spPr>
            <a:xfrm>
              <a:off x="3254400" y="5078520"/>
              <a:ext cx="46080" cy="32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1" name="Freeform 57"/>
            <p:cNvSpPr/>
            <p:nvPr/>
          </p:nvSpPr>
          <p:spPr>
            <a:xfrm>
              <a:off x="3254400" y="4907160"/>
              <a:ext cx="7452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2" name="Freeform 58"/>
            <p:cNvSpPr/>
            <p:nvPr/>
          </p:nvSpPr>
          <p:spPr>
            <a:xfrm>
              <a:off x="3254400" y="4735440"/>
              <a:ext cx="101520" cy="72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3" name="Freeform 59"/>
            <p:cNvSpPr/>
            <p:nvPr/>
          </p:nvSpPr>
          <p:spPr>
            <a:xfrm>
              <a:off x="3254400" y="4564080"/>
              <a:ext cx="128520" cy="90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4" name="Freeform 60"/>
            <p:cNvSpPr/>
            <p:nvPr/>
          </p:nvSpPr>
          <p:spPr>
            <a:xfrm>
              <a:off x="3254400" y="4391280"/>
              <a:ext cx="153720" cy="10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5" name="Freeform 61"/>
            <p:cNvSpPr/>
            <p:nvPr/>
          </p:nvSpPr>
          <p:spPr>
            <a:xfrm>
              <a:off x="3252600" y="4219560"/>
              <a:ext cx="179640" cy="126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6" name="Freeform 62"/>
            <p:cNvSpPr/>
            <p:nvPr/>
          </p:nvSpPr>
          <p:spPr>
            <a:xfrm>
              <a:off x="3252600" y="4049640"/>
              <a:ext cx="203400" cy="14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7" name="Freeform 63"/>
            <p:cNvSpPr/>
            <p:nvPr/>
          </p:nvSpPr>
          <p:spPr>
            <a:xfrm>
              <a:off x="3252600" y="3878280"/>
              <a:ext cx="22536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8" name="Freeform 64"/>
            <p:cNvSpPr/>
            <p:nvPr/>
          </p:nvSpPr>
          <p:spPr>
            <a:xfrm>
              <a:off x="3252600" y="3705480"/>
              <a:ext cx="247680" cy="176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9" name="Freeform 65"/>
            <p:cNvSpPr/>
            <p:nvPr/>
          </p:nvSpPr>
          <p:spPr>
            <a:xfrm>
              <a:off x="3252600" y="3533760"/>
              <a:ext cx="270000" cy="191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0" name="Freeform 66"/>
            <p:cNvSpPr/>
            <p:nvPr/>
          </p:nvSpPr>
          <p:spPr>
            <a:xfrm>
              <a:off x="3252600" y="3362400"/>
              <a:ext cx="290520" cy="207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1" name="Freeform 67"/>
            <p:cNvSpPr/>
            <p:nvPr/>
          </p:nvSpPr>
          <p:spPr>
            <a:xfrm>
              <a:off x="3252600" y="3191040"/>
              <a:ext cx="309600" cy="221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2" name="Freeform 68"/>
            <p:cNvSpPr/>
            <p:nvPr/>
          </p:nvSpPr>
          <p:spPr>
            <a:xfrm>
              <a:off x="3252600" y="3019680"/>
              <a:ext cx="328680" cy="235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3" name="Freeform 69"/>
            <p:cNvSpPr/>
            <p:nvPr/>
          </p:nvSpPr>
          <p:spPr>
            <a:xfrm>
              <a:off x="3252600" y="2921040"/>
              <a:ext cx="341280" cy="241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4" name="Freeform 70"/>
            <p:cNvSpPr/>
            <p:nvPr/>
          </p:nvSpPr>
          <p:spPr>
            <a:xfrm>
              <a:off x="3262320" y="2921040"/>
              <a:ext cx="331560" cy="23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5" name="Freeform 71"/>
            <p:cNvSpPr/>
            <p:nvPr/>
          </p:nvSpPr>
          <p:spPr>
            <a:xfrm>
              <a:off x="3286080" y="2921040"/>
              <a:ext cx="307800" cy="216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6" name="Freeform 72"/>
            <p:cNvSpPr/>
            <p:nvPr/>
          </p:nvSpPr>
          <p:spPr>
            <a:xfrm>
              <a:off x="3311280" y="2921040"/>
              <a:ext cx="282600" cy="198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7" name="Freeform 73"/>
            <p:cNvSpPr/>
            <p:nvPr/>
          </p:nvSpPr>
          <p:spPr>
            <a:xfrm>
              <a:off x="3335400" y="2921040"/>
              <a:ext cx="258480" cy="181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8" name="Freeform 74"/>
            <p:cNvSpPr/>
            <p:nvPr/>
          </p:nvSpPr>
          <p:spPr>
            <a:xfrm>
              <a:off x="3359160" y="2921040"/>
              <a:ext cx="233280" cy="164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9" name="Freeform 75"/>
            <p:cNvSpPr/>
            <p:nvPr/>
          </p:nvSpPr>
          <p:spPr>
            <a:xfrm>
              <a:off x="3384360" y="2921040"/>
              <a:ext cx="208080" cy="147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0" name="Freeform 76"/>
            <p:cNvSpPr/>
            <p:nvPr/>
          </p:nvSpPr>
          <p:spPr>
            <a:xfrm>
              <a:off x="3408120" y="2921040"/>
              <a:ext cx="184320" cy="130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1" name="Freeform 77"/>
            <p:cNvSpPr/>
            <p:nvPr/>
          </p:nvSpPr>
          <p:spPr>
            <a:xfrm>
              <a:off x="3432240" y="2921040"/>
              <a:ext cx="160200" cy="113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2" name="Freeform 78"/>
            <p:cNvSpPr/>
            <p:nvPr/>
          </p:nvSpPr>
          <p:spPr>
            <a:xfrm>
              <a:off x="3456000" y="2921040"/>
              <a:ext cx="136440" cy="9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3" name="Freeform 79"/>
            <p:cNvSpPr/>
            <p:nvPr/>
          </p:nvSpPr>
          <p:spPr>
            <a:xfrm>
              <a:off x="3252600" y="2921040"/>
              <a:ext cx="341280" cy="2562120"/>
            </a:xfrm>
            <a:prstGeom prst="pie">
              <a:avLst/>
            </a:prstGeom>
            <a:solidFill>
              <a:srgbClr val="ffffff"/>
            </a:soli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4" name="Freeform 80"/>
            <p:cNvSpPr/>
            <p:nvPr/>
          </p:nvSpPr>
          <p:spPr>
            <a:xfrm>
              <a:off x="3133800" y="2354400"/>
              <a:ext cx="581040" cy="103320"/>
            </a:xfrm>
            <a:prstGeom prst="pie">
              <a:avLst/>
            </a:pr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5" name="Freeform 81"/>
            <p:cNvSpPr/>
            <p:nvPr/>
          </p:nvSpPr>
          <p:spPr>
            <a:xfrm>
              <a:off x="3252600" y="2889360"/>
              <a:ext cx="33984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6" name="Freeform 82"/>
            <p:cNvSpPr/>
            <p:nvPr/>
          </p:nvSpPr>
          <p:spPr>
            <a:xfrm>
              <a:off x="3252600" y="2889360"/>
              <a:ext cx="339840" cy="65160"/>
            </a:xfrm>
            <a:prstGeom prst="pie">
              <a:avLst/>
            </a:prstGeom>
            <a:solidFill>
              <a:srgbClr val="ffffff"/>
            </a:soli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7" name="Freeform 83"/>
            <p:cNvSpPr/>
            <p:nvPr/>
          </p:nvSpPr>
          <p:spPr>
            <a:xfrm>
              <a:off x="3133800" y="2405160"/>
              <a:ext cx="581040" cy="3097080"/>
            </a:xfrm>
            <a:prstGeom prst="pie">
              <a:avLst/>
            </a:pr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8" name="Freeform 84"/>
            <p:cNvSpPr/>
            <p:nvPr/>
          </p:nvSpPr>
          <p:spPr>
            <a:xfrm>
              <a:off x="3402000" y="2363760"/>
              <a:ext cx="306360" cy="49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79" name="Group 85"/>
          <p:cNvGrpSpPr/>
          <p:nvPr/>
        </p:nvGrpSpPr>
        <p:grpSpPr>
          <a:xfrm>
            <a:off x="3708360" y="4365720"/>
            <a:ext cx="3024360" cy="1191240"/>
            <a:chOff x="3708360" y="4365720"/>
            <a:chExt cx="3024360" cy="1191240"/>
          </a:xfrm>
        </p:grpSpPr>
        <p:sp>
          <p:nvSpPr>
            <p:cNvPr id="1280" name="Text Box 86"/>
            <p:cNvSpPr/>
            <p:nvPr/>
          </p:nvSpPr>
          <p:spPr>
            <a:xfrm>
              <a:off x="4211640" y="4365720"/>
              <a:ext cx="25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Limewater turns milky/cloudy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1" name="AutoShape 87"/>
            <p:cNvSpPr/>
            <p:nvPr/>
          </p:nvSpPr>
          <p:spPr>
            <a:xfrm>
              <a:off x="3708360" y="4581360"/>
              <a:ext cx="503280" cy="360000"/>
            </a:xfrm>
            <a:prstGeom prst="leftArrow">
              <a:avLst>
                <a:gd name="adj1" fmla="val 50000"/>
                <a:gd name="adj2" fmla="val 349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2" name="Group 88"/>
          <p:cNvGrpSpPr/>
          <p:nvPr/>
        </p:nvGrpSpPr>
        <p:grpSpPr>
          <a:xfrm>
            <a:off x="3708360" y="3213000"/>
            <a:ext cx="3024360" cy="459720"/>
            <a:chOff x="3708360" y="3213000"/>
            <a:chExt cx="3024360" cy="459720"/>
          </a:xfrm>
        </p:grpSpPr>
        <p:sp>
          <p:nvSpPr>
            <p:cNvPr id="1283" name="Text Box 89"/>
            <p:cNvSpPr/>
            <p:nvPr/>
          </p:nvSpPr>
          <p:spPr>
            <a:xfrm>
              <a:off x="4211640" y="3213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Limewate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4" name="AutoShape 90"/>
            <p:cNvSpPr/>
            <p:nvPr/>
          </p:nvSpPr>
          <p:spPr>
            <a:xfrm>
              <a:off x="3708360" y="3284640"/>
              <a:ext cx="503280" cy="360360"/>
            </a:xfrm>
            <a:prstGeom prst="leftArrow">
              <a:avLst>
                <a:gd name="adj1" fmla="val 50000"/>
                <a:gd name="adj2" fmla="val 349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2:53:09Z</dcterms:created>
  <dc:creator>Ministry of Education</dc:creator>
  <dc:description/>
  <dc:language>en-US</dc:language>
  <cp:lastModifiedBy>Ministry of Education</cp:lastModifiedBy>
  <dcterms:modified xsi:type="dcterms:W3CDTF">2010-11-14T04:59:36Z</dcterms:modified>
  <cp:revision>67</cp:revision>
  <dc:subject/>
  <dc:title>Slide 1</dc:title>
</cp:coreProperties>
</file>